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9D28-7C4C-4906-990A-B6371592DCB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BE76-6F9C-47A1-9D16-64C9301C34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10BD-46F7-4B9A-88B4-04198E841B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9EDA-DFD4-495B-9855-5581A69948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5A9F-AA53-4351-86D1-E7817A5CE0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FD55-F32B-4C01-8CDC-3090F98BA6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A626-CA68-46F3-AF25-61BD040791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A06E-560A-4DCF-97D6-FD1A52C7B2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65CE-09F5-41FF-A295-659E4B3637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E475-7C22-4E34-B24C-B8F65B7BDB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89953-BB7D-4F13-A73E-70B5AC506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9B4F9-BBDC-4551-92FF-083B51E9C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27DCF9E-2E68-446D-BAD4-0DF797707F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6B834DB-3D4D-47EA-83F9-F9323E1088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F259396-6637-4B65-ADA7-AA07977A0B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4010120-6E7D-4263-901F-24C5BF3DE3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F5E976-0E61-448D-9A84-F969CAF48C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CB4264-09F9-4778-82EC-B848F7E3ED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975223B-2795-423B-AE80-4D7D2720B8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F5FABEC-F7A2-4A64-8527-52D91B7227A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01F2640-00AF-47EE-BB77-042A8416701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24B6C31-DE8B-4458-AF94-31B50E0931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6AA63-5387-4152-87F5-1CAE0FAA3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93907D-6109-42D7-81C5-6A56FF23B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853CFC2-384D-4DB5-AEDB-2DC689046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14A0F05-4344-4D9A-96F5-B294B3E195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F66995-A6A7-4A61-8941-905B75E337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9C1FBF-6034-4EBD-BF04-6CEC2BD7CF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FEA15C-9D5E-4938-A78D-5511FFEEC3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3C9572-AA4F-4FFC-8557-D34FF5AA9C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9AA20C-EB07-4A71-B705-D27716DB88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7473A00-5738-495C-9137-C4603BF92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3B462C7-8679-4569-9A83-C02ADC3203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6EBCC-5FA0-4912-9832-3D65E4E0D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AEF8596-6B9F-4948-8D33-DC905FF641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47AB6A-F0C3-4432-91F6-8928429C1E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2E745B-397F-404D-93D9-710663A7D6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059799-8BFC-4933-96AE-81FBAE21EF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04E358-BB4F-441B-9810-A35F35AC7E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A3D47C-2264-46C2-A5A2-F6D3A0C2DC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3890C6-CBF6-43F7-9448-9B360F1674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744457-1435-48A3-81D4-8771EF3B39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9D3312-4EF5-432B-BFF1-6D1A57A9E0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D5601-EAA7-40C2-9BC3-2FB957D011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284B4-3DB6-4A4C-9B81-F86D0B2ED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0FD517-BECD-421E-BA3B-B5DA3AF1D4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1EBE7A-C218-4BD6-9693-27EBAADF70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AD63C9-5359-4C06-8D41-D86012F5CA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7619405-18A3-49A8-B40E-C9747A2798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EA0CBA0-64B2-408A-BE24-5E950347CE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DF2DD0F-CA2F-43A4-9330-FB7303E087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1D5789B-05E6-4743-ADB9-F62E5591BD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B6A130E-46A8-4EA2-A0AB-28804FE549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25DC1D6-7346-4EF3-A147-30DC34D22B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B12DBD-89D9-47E0-B495-915C2DCB15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8DE9B-1FB3-4DE4-B905-E31D743D8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F1883D-89C5-4222-A45F-C825BFD1A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13B186F-1BAE-4545-A1E1-0E18F69B3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02628B-5E06-4BDB-AC06-2580438B55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A3DE344-8248-40F7-B3F9-C4785E194D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B026F24-EA18-44B2-9FB4-625BD02BAC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6A405-2B96-4A06-9C1F-12D03361E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F0A62-D919-4CEE-8074-26017C66B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79445-CB9B-4E31-9B9A-AC609606E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2EFFE-E6D9-4B1C-AD19-BD82E8E36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40D14-189D-4EBF-8714-545346E02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FD49-635D-4CB0-A5B8-0A11D83A8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1D679-E6A3-43AF-856D-1574728D3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ABFFF-7977-46EC-A38B-3A8A65491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34FF6-E275-4FF1-BA99-0D03C2887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1FDF5-09E7-4034-B767-09431BE56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7BCD1-0534-4705-BD08-254E554B6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EA983-C4C5-417F-9B00-8ADEA86598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4C711-01A3-424F-911C-FC9C515EC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70A2C-0FB3-460E-90F8-40215D947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B7457-336E-46A4-971C-D353B2AB5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8C860-4E14-4FF7-A06B-1787ED61B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469D1-C510-43D9-B2A7-C6251555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C6110-9B42-4328-B36E-B1E3214B5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605A2-081C-44C3-90B0-14B972CAD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A502F-1A22-4313-B901-EEA658670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6AB04-A500-452B-9DBE-BEA8E76C3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05B53-01BB-4D84-A28E-DD5540637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E963D7-01B9-42E3-B501-B6BC2AD50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D0D8DF-BA61-4401-95B7-F75A3CE67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FC39F5C-C3DB-4BEB-A269-608D388554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DB5BE9C-13F5-49F5-B9A1-B531390756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2E13A42-1565-4A06-A739-54E6DA5FC0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F9548-424A-4221-A7E3-DD8114D0A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CF7942-9415-46AE-BFB7-4EF77BB1F1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4CB7916-FC22-48FB-ACE6-BF064BAB81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EDB4971-30DD-4978-93AD-857341A6C5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A6C0EC8-ECA1-4A1D-B2E4-29088EFADC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6D9EA4D-63E1-4122-98FD-A1EE133B60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67BB116-FEA2-4689-AFEA-CDB9F51C10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DC98C78-0A64-488F-850B-8565A03D3E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22D2391-84A7-41F5-955D-8D1B6A33FF0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41552C4-E761-4EEE-9642-7F080BE9C2A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CCCA01-9077-4722-911D-FD4441D2A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87B73-4D74-4573-AB44-298D8260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D4D95-F455-4613-98FC-407A1CC47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841ADC-05C8-4B4B-877E-568C913B8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AA3903-9ACB-47BF-B756-3A93161C11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674BA-BF2B-44F6-82EA-211F3B48F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78322-269A-43D3-B17E-64EEC6480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2AF5E-DF75-45F2-8038-AC43A2EC2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E8177-9EB0-4510-B7FA-3446F5C82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BA3F3-87C4-44C2-9BD3-33C93E4B8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6F24E-4182-4C31-A9A4-7CB255148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C8C53D-C4E5-43B3-B0EC-E98651F4D0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52DE4-53B8-4E66-BB31-F2DB0963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7A31AA-EDE1-4290-9EB1-F1E066E05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EEE54C-6FD3-4FB2-BBDA-D840718100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B14E4-E6F1-4239-A15D-8E9F9F60A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12561-B8D6-4982-9389-77394F0F5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A0811-DF91-4816-B83E-8FE99A05F5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4D9B4-DF79-450D-B0EE-EE1D37A56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4F3B9-84C4-4EF4-94D4-A6AACCA05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BA14C-004B-488C-8AE9-F07D1BB27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1F6A5-C8D2-482D-91EC-83ACA3D0F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DD397-8A52-4216-9997-A15649D24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7D19-392A-41A4-B8B8-8467C20D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0378A-CF59-41E5-B59F-F20E411F4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94B06A-0453-492B-95D5-849B7C7297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92454-6DEA-47EB-B464-CC73C50346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77E261-EDFC-4870-A345-E013F0F684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1589B9-4A3C-4906-9EC2-0AC3FF6D0C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D0E01-7DAC-4559-92C8-DDEC0678EF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6B88E-BF7F-48F2-898E-331BCCEDF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4E33B-03D3-4499-873E-DA0A373FC3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1204D-4B39-45E4-BCB2-7674C20DC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820D5-5FE6-47E6-8039-278C21D25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8E0A-FCDF-402E-A24C-E8ECB622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3812A-B41F-459C-B2F7-DB694F345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0242E-6605-44F9-B354-8B263553E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5F6DE4-9979-47DB-8DB8-B915B28B0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94182-3850-41E7-A646-768AE8A7A9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EB392E-A078-4D9E-A3FF-A194B994B7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E833DE-6FEC-4EE2-895F-711E55882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A8C1CA-E502-4535-BD5D-EEEF19FE05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F8B4B-2E1C-4D8A-B898-B0A87E04B7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EFF58-87DB-40C8-B193-740FE504E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5674B-641F-45F1-8D90-821A119455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4E1C-197A-4748-89E7-7FEE4CDD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200AFB-4873-4D00-9EF2-B18C4FC6C5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95041-C442-44C1-BEE3-D541A6DB3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4BA29-AA24-497E-8842-13221051C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2C66D-9B1D-4F7E-BC9A-0FE608799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9D5CF2-F0C9-444E-9E75-107331DE5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6F7B2B-FC28-4BF7-A8C6-00767890BB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0A832E-206F-405F-84D7-C0FC41F9C4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DEE8D29-237F-4C0B-B6D0-2DF01992CB7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5C68655-7405-4258-BD1A-AE8EA10B9E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6E255BD-847D-48B0-806F-446790C9CA4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B309-96B7-485A-A902-AC2804EF3359}"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810B-D4FC-4F3D-AC3A-64C3166FA790}"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D07E-3F96-453C-A2FB-46F7F498075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0257-5A62-4083-8846-5AED9B74CF18}"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A1D5-7EC7-4027-A687-41EDD52CE5F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C3E7-7E8C-42BE-ABC3-189D898806B0}"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6853-5BD9-4971-BEAA-72654EB86867}"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EAC2-2A22-4EA4-8548-2AD8D5CBC50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0300-7F52-44F7-933A-BDEF42DBDC5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1A59-9754-47C7-B7B0-F22D6CD12631}"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6C1C-2DD8-4594-9869-EFD4A8B1BF14}"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A107-B99B-4089-A790-A767A22A8495}"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triangle"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triangle"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triangle"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triangle"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triangle"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triangle"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triangle"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triangle"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triangle"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triangle"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arrow"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arrow"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arrow"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arrow"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arrow"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arrow"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arrow"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arrow"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arrow"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arrow"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