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221C-9834-4216-BD1E-59D6191C282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качестве направлений дальнейшей работы будет проведено</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рименимости бинарных разрешающих диаграмм для данной задач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возможности создания графологической системы, позволяющей проводить анализы: </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висимости скорости ввода от их смысла, что укажет на сферу интересов пользователя. Например, химик быстрее наберет "водород", "соединение", которыми он постоянно оперирует, чем "программа" или "экскаватор".</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иагностирование заболеваний и психологический анализ, данный вид графологии уже получил развитие, например, система, реализующая психофизический анализ пользователя внедрена в России на нефтеперерабатывающем мини-заводе  в 2006 год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пасибо за внимани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О «Стройкомплект ЗО»  г.Орла в 2006 году.</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r>
              <a:rPr b="0" lang="ru-RU" sz="700" spc="-1" strike="noStrike">
                <a:solidFill>
                  <a:srgbClr val="000000"/>
                </a:solidFill>
                <a:latin typeface="Calibri"/>
              </a:rPr>
              <a:t>не буду это говорить</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МОЖЕТ ЛИ КОМПЬЮТЕР СТАТЬ ГРАФОЛОГОМ?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ал этому Енсену почерк своей жены. Енсен только взглянул и сразу говорит: "Эта женщина насквозь лживая, болтливая, ленивая... Прошлое у нее темное, да еще хочет убить своего мужа." - Представляете себе, этот человек побледнел как смерть, потому что все это было чистая правда. Вы только подумайте, он жил с ней счастливо 20 лет и решительно ничего не замечал. К. Чапек. Тайна почерка. </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Рукопись в своеобразии начертания букв доносит до нас что-то личностное. Графологи, продравшись сквозь частокол завитушек, многое расскажут об их авторе. А что можно узнать с помощью компьютера о человеке, "долбящему" по клавишам? Что ж, поищем аналогии.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М.Зуев-Инсаров, автор фундаментальных работ по графологии, не только убедительно демонстрирует методы определения пола, возраста, образования, рода занятий писавшего, но и достаточное внимание уделяет экспериментальным основаниям этого научного направления. Его классификация содержит такие формальные признаки почерка, как: сила нажима, динамичность и напряженность движения, вытянутость, наклон и степень связанности букв, направление строки, расположение и содержательность текста, способ держания орудия письма, равномерность и соразмерность букв и слов, ритм и выразительность письм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то же из этого может позаимствовать "клавиатуровед"? Аналогии есть, это несомненно. Взять, к примеру, связанность букв в словах, то есть по сути промежуток между ними на бумаге, - по информативности паузы при нажатии клавиш ничем не уступают. Действительно, если не новичок при хорошем темпе вдруг начал ошибаться, искать на клавиатуре нужные буквы, которые только что столь уверенно набирал, то скорее всего он охвачен внутренними переживаниями, не относящимися к выполняемой работе. А ровный темп, взятый в начале и сохраненный до конца, не хуже графологического признака "равномерность письма" свидетельствует о пунктуальности и аккуратности тестируемого.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нечно, многие особенности рукописного почерка при работе на компьютере сопоставлять бесполезно, ведь клавиатура и драйверы стандартизируют буквы. Зато здесь появляются новые признаки: зависимость скорости ввода слов от их смысла, относительное время нажатия клавиш различных полей клавиатуры и другие. Причем они в некоторых случаях даже более информативны - например, реакция тестируемого на различные термины укажет сферу его интересов. Действительно, химик быстрее наберет "водород", "соединение", которыми он постоянно оперирует, чем "программа", "экскаватор". А модельеру будут привычнее - "манекен", "выкройка". (Кстати, это свойство "мышечной" памяти, не контролируемой сознанием, можно использовать для программы "Детектор лжи".) Здесь даже появляется возможность отдельно анализировать левое и правое полушария мозга (отвечающие за образное и абстрактное мышление), поскольку они связаны с правой и левой руками человека, а письмо представляет только "одностороннюю" информацию.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Графологические исследования способствуют также диагностированию больного, так как почерк меняется при заболевании, возвращаясь к нормальному виду по мере выздоровления. Кто знает, не подойдет ли подобный анализ и при постановке предварительного диагноза работающего на компьютере, только нужно собрать большой статистический материал, которым пока никто не занимается. Можно пойти и дальше - построить Личностный вектор и на его основе описать внешность, характер и судьбу человека [2]. Заключение хотя и кажется слишком категоричным, тем не менее основано на известных теориях из психологии. Впрочем, взаимосвязь внешнего и внутреннего облика очевидна: закомплексованность из-за физического изъяна отражается на поведении, которое, в свою очередь, влияет на способ общения с компьютером. Поэтому решение обратной задачи - определение по клавиатурному почерку характера и, через него, внешности - хотя и трудно, но допустимо, пусть пока теретически. Например, на нештатную ситуацию (якобы "сбой" компьютера, а на самом деле - предусмотренный автором программы психологический тест) вспыльчивый холерик и "вечно комплексующий" меланхолик отреагируют по разному. А кто меньше отвлекается при длительной работе? Флегматик, сангвиник или холерик? Вероятно, наибольшее возражение вызывает утверждение о возможности прогнозирования судьбы. Хотя и в его защиту можно привести немало аргументов. Ведь астрологи считают, что жизнь человека зависит от даты рождения. Это с одной стороны, с другой же, его выбор из альтернативных вариантов и совершение поступка под влиянием принятого решения - продиктованы всей деятельностью в далеком и недалеком прошлом. То есть, выбор - всего лишь иллюзия разума. Поэтому, выяснив главные вехи в биографии и определив основные черты характера, можно с достаточной степенью вероятности смоделировать линию поведения человека в той или иной ситуации. А если в расчет ввести людей, прямо или косвенно связанных с ним, построить математическую модель пространства со своими факторами? То теория предсказания судьбы становится, пусть спорной, но понятной. И в принципе реализуемой - что стоит для хорошего компьютера учесть несколько тысяч величин? Лишь бы были тщательно проработаны математические формулы и введены числовые значения всех факторов, влияющих на поведение человек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 и т е р а т у р а. 1. Зуев-Инсаров Д.М. Строение почерка и характер. М., издание автора, 1930. 2. Расторгуев С.П. Архетипы судьбы. М., Агентство "Яхтсмен", 1992. </a:t>
            </a:r>
            <a:endParaRPr b="0" lang="en-US" sz="700" spc="-1" strike="noStrike">
              <a:solidFill>
                <a:srgbClr val="000000"/>
              </a:solidFill>
              <a:latin typeface="Calibri"/>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8679-8699-4160-9C85-21A89C93EE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обычной жизни если мы знакомы с человеком, то легко узнаем друг друга в лицо. Если не знакомы, то чтобы идентифицировать человека, нам требуется паспорт или аналогичный документ с фотографией. «Опознать» же человека, сидящего за компьютером по ту сторону Сети, несколько сложнее — это требует достаточно специфичных методов.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Аутентификация пользователей обычно выполняется неким программным модулем, находящимся непосредственно на компьютере, к которому пользователь пытается получить прямой или удаленный доступ.</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 при помощи которой можно опознать пользователя, бывает трех видов:</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знает нечто уникальное и демонстрирует компьютеру это знание. Такой информацией может быть, например, парол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имеет предмет с уникальным содержимым или с уникальными характеристикам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 аутентификационная информация является неотъемлемой частью пользователя. По этому принципу строятся системы биометрической аутентификации, использующие в качестве информации, например, отпечаток пальц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A158-84C5-40EF-A8EC-BD26C82D11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данной дипломной работы - предложить подход к построению биометрических систем, позволяющий упростить и повысить их </a:t>
            </a:r>
            <a:r>
              <a:rPr b="0" lang="en-US" sz="1200" spc="-1" strike="noStrike">
                <a:solidFill>
                  <a:srgbClr val="000000"/>
                </a:solidFill>
                <a:latin typeface="Calibri"/>
              </a:rPr>
              <a:t>User experience</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ая биометрия будет использовать только самое распространённое оборудование, такое как клавиатура. Биометрическая система будет состоять только из программного обеспечения, способного функционировать на большинстве компьютеров и работать быстро и незаметно для пользователя. Она будет удобной, то есть для аутентификации от пользователя требуется просто работать. Система сама должна настроиться, обучиться и аутентифицировать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91C2-F240-4E44-8F61-9AC1B61124D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усственные нейронные сети, благодаря их адаптивности, обучению и способности к обобщению функциональных зависимостей, широко применяются в задачах анализа статистических наблюдений сложной структуры. Благодаря этому они были выбраны как основа для достижения целей данной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постановка задачи состоит в следую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сти анализ клавиатурного почерка с целью выявить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полученной информации о клавиатурном почерке, разработать и реализовать архитектуру обучающейс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истему, использующую нейронную сеть для аутентификации пользователя во время его работы, незаметным для него способ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2EA0-2506-4427-BB56-F3A5CB7E8FF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клавиатурного почерка выявил следующие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енные промежутки между нажатиями клавиш</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удержания клавиши нажат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тм печа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дня, проведённые исследования показывают, что наиболее быстро пользователь работает в середине рабочего дня, чуть медленнее утром, и гораздо медленнее – веч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ости букв, что обусловлено как близостью клавиш на клавиатуре, так и персональных особенностей рук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в котором пользователь работает, например, в приложении </a:t>
            </a:r>
            <a:r>
              <a:rPr b="0" lang="en-US" sz="1200" spc="-1" strike="noStrike">
                <a:solidFill>
                  <a:srgbClr val="000000"/>
                </a:solidFill>
                <a:latin typeface="Calibri"/>
              </a:rPr>
              <a:t>Word</a:t>
            </a:r>
            <a:r>
              <a:rPr b="0" lang="ru-RU" sz="1200" spc="-1" strike="noStrike">
                <a:solidFill>
                  <a:srgbClr val="000000"/>
                </a:solidFill>
                <a:latin typeface="Calibri"/>
              </a:rPr>
              <a:t> пользователь будет печатать быстрее, чем приложении калькулято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 недели – это связано с психологическим состоянием пользователя, во время трудовой недели пользователь испытывает психологическую нагрузку, которая может накапливаться (например, врачи, дежурящие в больнице по нескольку дней, к концу смены истощены), что сказывается на их клавиатурном почер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9B44-A1CA-4303-BEDA-0601BF381B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что надо сделать при создании приложений на основе нейронных сетей – это определить основные требования, которым должна удовлетворять проектируемая нейронная сеть. В данной работе нейронная сеть построена по следующим принцип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чение методом “обучение с учителем”, потому, что нейронная сеть должна обучаться на клавиатурном вводе пользовател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рекурсий и возвратов, которые могут привести к неопределённо долгому процессу принятия решения, что неприемлемо в динамических системах аутентификац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ронная сеть должна работать с параметрами, описанными на прошлом слайде, что обусловлено тем, что нейронная сеть должна предсказывать клавиатурный ввод пользователя (именно в этом и состоит новизна реш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ина слова, подаваемая на вход нейронной сети, не должна быть меньше трёх символов, так как это минимальное число букв, необходимое для замера клавиатурного ритм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26DB-E8D8-4E1A-B39D-A41D856925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работы над архитектурой системы, был разработан механизм поиска оптимальной нейронной сети для определённых выше требований, и его реализация в виде дополнения к общедоступной библиотеке работы с нейронными сетями </a:t>
            </a:r>
            <a:r>
              <a:rPr b="0" lang="en-US" sz="1200" spc="-1" strike="noStrike">
                <a:solidFill>
                  <a:srgbClr val="000000"/>
                </a:solidFill>
                <a:latin typeface="Calibri"/>
              </a:rPr>
              <a:t>NeuronDotNe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еханизма нужно три набора тестовых дан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бучающие” данные – примеры, записанные пользователем для обуче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хорошие” данные – примеры, записанные пользователем для тестирова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трицательные” данные – примеры предназначены для тестового прогона нейронной сети, записанные другим челове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нужны для замера качества сгенерированной нейронной сети с целью выбора наиболее оптимальн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иду того, что специфика задачи предполагает “обучение с учителем”, то генерация каждой новой нейронной сети происходит последовательным перебором всевозможных архитектур, ограниченных возможностями </a:t>
            </a:r>
            <a:r>
              <a:rPr b="0" lang="en-US" sz="1200" spc="-1" strike="noStrike">
                <a:solidFill>
                  <a:srgbClr val="000000"/>
                </a:solidFill>
                <a:latin typeface="Calibri"/>
              </a:rPr>
              <a:t>NeuronDotNe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B8C4-0508-4530-A491-8C99FF93A3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генерированной нейронной сети был разработан механизм распознавания пользователя по клавиатурному почерку, схема работы которого представлена на рисун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 сбора данных, собирает всю нужную информацию незаметным для пользователя способом и вне зависимости от того, в каком приложении он сейчас работ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атор проводит аутентификацию при помощи нейронной сети и обрабатывает результаты в зависимости от текущих настроек то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принятия решений ведёт статистику работы анализатора, управляет политиками аутентификации и сообщает пользователю о провале аутентификации, если таковая имеет мес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реализована на платформе .</a:t>
            </a:r>
            <a:r>
              <a:rPr b="0" lang="en-US" sz="1200" spc="-1" strike="noStrike">
                <a:solidFill>
                  <a:srgbClr val="000000"/>
                </a:solidFill>
                <a:latin typeface="Calibri"/>
              </a:rPr>
              <a:t>NET</a:t>
            </a:r>
            <a:r>
              <a:rPr b="0" lang="ru-RU" sz="1200" spc="-1" strike="noStrike">
                <a:solidFill>
                  <a:srgbClr val="000000"/>
                </a:solidFill>
                <a:latin typeface="Calibri"/>
              </a:rPr>
              <a:t> компании </a:t>
            </a:r>
            <a:r>
              <a:rPr b="0" lang="en-US" sz="1200" spc="-1" strike="noStrike">
                <a:solidFill>
                  <a:srgbClr val="000000"/>
                </a:solidFill>
                <a:latin typeface="Calibri"/>
              </a:rPr>
              <a:t>Microsoft</a:t>
            </a:r>
            <a:r>
              <a:rPr b="0" lang="ru-RU" sz="1200" spc="-1" strike="noStrike">
                <a:solidFill>
                  <a:srgbClr val="000000"/>
                </a:solidFill>
                <a:latin typeface="Calibri"/>
              </a:rPr>
              <a:t> и работает на операционной системе </a:t>
            </a:r>
            <a:r>
              <a:rPr b="0" lang="en-US" sz="1200" spc="-1" strike="noStrike">
                <a:solidFill>
                  <a:srgbClr val="000000"/>
                </a:solidFill>
                <a:latin typeface="Calibri"/>
              </a:rPr>
              <a:t>Windows</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9F45-E763-4BA5-AF28-E1BFF21D69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так, результатами данного дипломного проекта являютс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нализ параметров, характеризующих клавиатурный почерк</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еханизм поиска нейронных сетей по входным данным и его реализаци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тотип биометрической системы аутентификации пользователя по клавиатурному почерку, который:</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Состоит только из программного обеспе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оставляет возможность обу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утентификация ведётся незаметным для пользователя способом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Таким образом, все поставленные задачи в начале работы над дипломным проектом были решены в полном объеме.</a:t>
            </a:r>
            <a:endParaRPr b="0" lang="en-US" sz="900" spc="-1" strike="noStrike">
              <a:solidFill>
                <a:srgbClr val="000000"/>
              </a:solidFill>
              <a:latin typeface="Calibri"/>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6931-3020-4E6D-82FD-E39F1FC1E4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876EE-DF10-4B44-9D21-7BF635CFC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8F35B-DA0A-47F4-BDBF-292C8189A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D257DAD-9FCE-4660-9333-1A06932185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DA180BB-A36C-4E42-9299-3675E74105C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1B5EB91-A2C7-4A5A-BCEE-F0052392D6E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D172971-49C7-41E5-98B7-B2D368C46A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588302-9CCB-4400-B332-87440DCBE12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F73EB87-A23F-402A-81FD-0DF1497315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555C7B1-1EB3-49AB-9EAE-68E99FDA314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E5665B7-D482-41BF-84C6-35306DC1E4C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D516718-2E1B-44ED-BC79-9747A09CD45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8457588-BAE1-443E-BA5D-45140D9E37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1108C-6AAB-4202-9084-115A43083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7661BA8-B3B2-4CF5-A951-E2F10B2F3E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D4BF9C4-9B28-43DB-ACBA-75E7616F76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CDA024A-E95B-4534-904B-32F8EB1E4B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234A049-A71C-4E72-97AB-CDF9358C62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4A68ED6-BDC8-4DCB-85C3-C681F932D3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4CB1B6F-46D1-45B3-A912-0F68CFC389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557890B-ACE9-4E53-9657-418DC24EAD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A452720-2E71-4B12-A74A-F02A968FC3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83CA63A-E080-40BF-B9B5-0F8AE0F6B6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DC769A4-F752-42D9-88F5-CF2AEFB8E6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357D5-9DA2-44A9-A04B-4F94C495C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4ADE9E3-A7DC-4F58-9CD8-F4F1AC4413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F847B9-D96C-45AB-A8AD-FE3BDB7843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20CD59-979C-4422-9636-DD087457A6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F2BEF8-D46F-48D7-AB50-B9BBC74AE3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E8AEA1-F3F9-4FD0-B627-EC9D6073B1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8258E6-96A7-4F26-968B-A80E1E639B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D180A0-9977-4BC0-8F77-5083863A93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C9BFA1-A50A-4665-919E-BE69DF79F5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1174E2-AF94-4840-A62F-B34F74A484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664854-EB6A-4E8C-9CA9-032D0157F0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6AFF1-6783-4491-B765-EB08A3D87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3FD5A2-8544-4028-A018-07A4A43482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543D48-70F4-4086-82EE-5550BDA8CA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B50074-41DF-4291-AFF6-1F795C401B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E0AEEC3-37D0-4130-9DAF-6FFA583EA4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8CB0965-8DDF-4046-BA11-87954CD753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4B11C17-5A93-48C9-B4EC-C991F1BB3B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924636B-3DA8-4440-81A5-15978DBA88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091D4B1-00B1-425F-B271-8C8BAC2EA9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DC609BB-C7E3-473E-935F-A0BF42F9A1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4425A06-4FBD-4157-A4CE-68DF72C611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0130D-87F0-406F-99F4-EC705C46A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E9AEC53-459D-4D6F-9484-7057C39CD4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7363FFB-EABB-4FDC-A2E2-501240A47B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9DA3A13-A249-4229-84A3-6A8AF43A95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C56F483-6811-4355-995D-FB2C9E5403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7791ADF-3341-413B-89E2-EF3DAC3AEC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D3C3E-85EE-41DC-8AC9-B90382F6B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57444-FB8E-4B63-9D49-027599C5A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75B6A-6D87-479B-9179-1D1A8EAE5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EDF48-D970-4A49-B7B0-8FBCD1265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03804-F49D-4F92-80F1-ED0A46E35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71C8B-251A-4F29-8B34-3A5274118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900B2-2469-4E41-BB94-F30A361E1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469E0-AB10-4771-B2D8-1EE5EF6A1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2A63E-D716-488B-AE5E-A0966506C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A55F8-D952-4EAA-B18B-790D3424A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93DA1-F7F1-4679-A54A-327967BDB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F22154-35DA-419A-9158-49B58B753D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7A7BF-7243-4006-BFD3-85B7D1FBA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6B2B63-74C8-4A5A-A31C-CBFD6B12A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3F62AE-8257-4355-BC7F-2DDD801CC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25A44-20A7-42AA-946B-A7CA84060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40BCD-C836-40E4-A339-F46C0BA30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BF1DA1-83D4-4D4D-8C61-D2BCE42D2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0FE33-B56B-4F92-83E5-6D7C0D6D6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8B02A-368F-4DA4-8ED7-A446397F2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CDC1C-C294-4FD8-8786-419319668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39771-2E68-4AEF-B1EE-62692078BA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0AAFC0-70DD-4850-A7F6-8432F62E4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A01AAF-BF25-4833-98C3-FA84489D64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6F2BD33-FE21-4B1D-9067-9DCA4B2B80B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B0B67F8-FDC6-439A-AFAC-791FF4A80EF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3E3B870-1033-4DE6-859D-440C945739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1008E-9D46-4525-9506-3D42A98FA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B6EAD4A-E6FD-443F-97A6-0DACCFAC15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36BEDEA-C4C8-4598-9B32-D3CAFC9947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EAB36D7-9AC8-4233-A696-D1A82730491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ACA8C13-5438-40C0-B6EB-3D3D238369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5676ADE-BAF8-4EEC-89DF-1BD21EBDD5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A7C06F4-642B-4388-A901-3B094448AF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BED4E07-1E94-41C3-B50F-4E1058435D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55A035A-3622-4EAE-A2B8-95DF6C2AC03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66B2BF8-A03A-4C6F-8A79-24E1D2BF727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C7B6C0-981E-45E6-B8DD-378FAD9553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2C337-9FD9-4F3C-A90A-850BCD573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0616F3-7724-47E7-A9AB-202233D6F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C449B4-E975-43F9-BAD7-482D64DC0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287235-5B49-4BDE-8B7B-A5B5F8A33D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F8A337-9A7B-44D5-A02B-93CC92721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D8C8F-81AC-4849-A8D6-19494B2997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CFB25-CB44-4736-8B8F-B5BFBF798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7B277-29C5-47B4-81A2-63A036968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6775A-70A5-4420-9D75-D3DAFF559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372E0-998A-4A96-9B66-68AEAD9ED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4EC576-DF35-4B73-95E2-D5BD7A8E5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0C208-A81F-4C98-BD91-B79180A0D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2432D8-B020-45E9-B22A-50A9938F7F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C90E18-28D4-437F-9255-BC5D9D4E08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5C06D-0444-49ED-AF64-DEF74C34D8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00F271-2057-4ECD-B0E8-50F5E018F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8A4BDE-9A0D-403B-848C-5D084813F2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B2E053-E504-4897-B2F4-16577045E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B9F6F0-FFC2-4B54-BE2C-FC99FD0E8B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8D22B-43A9-4F06-AC69-BB328AE9F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74D53-1B38-4899-97BF-218BE5831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79221-D208-43C6-B88E-54FB2E961D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DE27F-BAEF-4C10-8A6B-9B0F410D2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51FA95-0ABF-4391-9473-74383F1BCC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977D3D-8BC3-4A33-A3DB-64C5A1839B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8C3FF7-95BB-4BB9-BF9C-1423920573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078AE6-C883-4227-8095-499285D12E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45AD28-5086-4128-9CE0-C885F9967A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4A7323-D718-42D8-9014-B63657B45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0E309F-8BF4-438C-8279-5DE643E804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0BCC8-2FDF-4D21-8D88-640FF60977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5E0F4F-26CF-4E1E-BB4F-8EED104B8F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122F0D-3473-4476-BB08-7B4DF6F760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1C2F3-CA8B-4BD0-B107-441DF3D50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8921A-893B-4EF6-BC3B-16870C57CD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C3AEE-6919-407E-915D-ECC9537E3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64C14F-46A8-4BB6-8501-CB4BC2FCC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3A001F-5AD9-4C4C-9C7C-4C822F0E19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065ABD-FA4F-43A5-BC8E-570B53BF72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6EE49F-2226-4278-8B24-413628688A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C0CDD-1115-4F61-9394-8097CA6E75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760873-4CF6-4DE4-AA01-C2C2D9BAF5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59D6E3-E480-4B09-BD3D-947428853F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B8EA9-6299-422A-BBE1-29DA267497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60B6-C3FC-4E24-9B3E-6FF338DC9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07326-DA71-44BD-A653-2D41F72C86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0B7A29-2BA7-4661-B70F-1565C9EFA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319F5C-AF8D-4D3C-ACF4-871628C5B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272E90-C136-43CE-A578-A7BCAB623D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AE8244-DBB9-4E4A-8F9D-02F4A97A43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8D9FFB-3246-4B5D-8970-EEBA87EFE9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4C31F0-986C-49F7-A5CA-0CD443CD6A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FF9F059-A076-470D-8974-CA579748703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5A6DDC4-010D-490C-84F3-E0AFCE70439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E1545B1-0A6E-4443-81F9-4137B23C4A6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FF83-F5FB-4519-943B-C802E661157A}"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FF16-A14F-4BFF-85CA-098DCDA3DCFB}"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CABC-F51C-442E-839C-35D438204A3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94F7-6CDE-4A0B-8183-FC41550D5229}"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247C-8415-42F5-8B84-4EF2E102753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783D-CD35-456A-91FF-F4E08A41322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1CD3-6B67-4BCD-8731-A740D62B7265}"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C2CD-21AA-43B6-9755-F5B06146DECC}"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833D-AD2A-4CFC-BC3B-7E975811FB9F}"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B5D9-EC32-4861-9ABB-EC3ECD7F44F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5F93-299D-4C29-B3DC-35063024F164}"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A663-7362-4525-86B7-36B18394A455}"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2785680"/>
            <a:ext cx="777240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Динамическая аутентификация на основе клавиатурного почерка</a:t>
            </a:r>
            <a:endParaRPr b="0" lang="en-US" sz="3600" spc="-1" strike="noStrike">
              <a:solidFill>
                <a:srgbClr val="7b9899"/>
              </a:solidFill>
              <a:latin typeface="Georgia"/>
            </a:endParaRPr>
          </a:p>
        </p:txBody>
      </p:sp>
      <p:sp>
        <p:nvSpPr>
          <p:cNvPr id="614" name="Text Box 52"/>
          <p:cNvSpPr/>
          <p:nvPr/>
        </p:nvSpPr>
        <p:spPr>
          <a:xfrm>
            <a:off x="357120" y="357120"/>
            <a:ext cx="83581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анкт-Петербургский государственный универси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тематико-механический факуль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афедра системного программирования</a:t>
            </a:r>
            <a:endParaRPr b="0" lang="en-US" sz="1600" spc="-1" strike="noStrike">
              <a:solidFill>
                <a:srgbClr val="000000"/>
              </a:solidFill>
              <a:latin typeface="Arial"/>
            </a:endParaRPr>
          </a:p>
        </p:txBody>
      </p:sp>
      <p:sp>
        <p:nvSpPr>
          <p:cNvPr id="615" name="Text Box 55"/>
          <p:cNvSpPr/>
          <p:nvPr/>
        </p:nvSpPr>
        <p:spPr>
          <a:xfrm>
            <a:off x="2857680" y="6357960"/>
            <a:ext cx="35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r>
              <a:rPr b="0" lang="en-US" sz="1600" spc="-1" strike="noStrike">
                <a:solidFill>
                  <a:srgbClr val="000000"/>
                </a:solidFill>
                <a:latin typeface="Times New Roman"/>
              </a:rPr>
              <a:t>9</a:t>
            </a:r>
            <a:r>
              <a:rPr b="0" lang="ru-RU" sz="1600" spc="-1" strike="noStrike">
                <a:solidFill>
                  <a:srgbClr val="000000"/>
                </a:solidFill>
                <a:latin typeface="Times New Roman"/>
              </a:rPr>
              <a:t> г.</a:t>
            </a:r>
            <a:endParaRPr b="0" lang="en-US" sz="1600" spc="-1" strike="noStrike">
              <a:solidFill>
                <a:srgbClr val="000000"/>
              </a:solidFill>
              <a:latin typeface="Arial"/>
            </a:endParaRPr>
          </a:p>
        </p:txBody>
      </p:sp>
      <p:graphicFrame>
        <p:nvGraphicFramePr>
          <p:cNvPr id="616" name=""/>
          <p:cNvGraphicFramePr/>
          <p:nvPr/>
        </p:nvGraphicFramePr>
        <p:xfrm>
          <a:off x="4857840" y="4857840"/>
          <a:ext cx="4071960" cy="1182600"/>
        </p:xfrm>
        <a:graphic>
          <a:graphicData uri="http://schemas.openxmlformats.org/drawingml/2006/table">
            <a:tbl>
              <a:tblPr/>
              <a:tblGrid>
                <a:gridCol w="2425680"/>
                <a:gridCol w="1646280"/>
              </a:tblGrid>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учный руководитель</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ст. преп.</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убанов Ю.А.</a:t>
                      </a:r>
                      <a:endParaRPr b="0" lang="en-US" sz="1600" spc="-1" strike="noStrike">
                        <a:solidFill>
                          <a:srgbClr val="000000"/>
                        </a:solidFill>
                        <a:latin typeface="Arial"/>
                      </a:endParaRPr>
                    </a:p>
                  </a:txBody>
                  <a:tcPr anchor="t" marL="90000" marR="90000">
                    <a:lnL>
                      <a:noFill/>
                    </a:lnL>
                    <a:lnR>
                      <a:noFill/>
                    </a:lnR>
                    <a:lnT>
                      <a:noFill/>
                    </a:lnT>
                    <a:lnB>
                      <a:noFill/>
                    </a:lnB>
                    <a:noFill/>
                  </a:tcPr>
                </a:tc>
              </a:tr>
              <a:tr h="59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Рецензент</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м.н.с.</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рачёв М.К.</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7" name="Заголовок 1"/>
          <p:cNvSpPr/>
          <p:nvPr/>
        </p:nvSpPr>
        <p:spPr>
          <a:xfrm>
            <a:off x="1785960" y="4000680"/>
            <a:ext cx="5572080" cy="577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ипломная работа</a:t>
            </a:r>
            <a:r>
              <a:rPr b="0" lang="en-US" sz="1600" spc="-1" strike="noStrike">
                <a:solidFill>
                  <a:srgbClr val="000000"/>
                </a:solidFill>
                <a:latin typeface="Georgia"/>
              </a:rPr>
              <a:t> </a:t>
            </a:r>
            <a:r>
              <a:rPr b="0" lang="ru-RU" sz="1600" spc="-1" strike="noStrike">
                <a:solidFill>
                  <a:srgbClr val="000000"/>
                </a:solidFill>
                <a:latin typeface="Georgia"/>
              </a:rPr>
              <a:t>студента 545 группы</a:t>
            </a:r>
            <a:r>
              <a:rPr b="0" lang="en-US" sz="1600" spc="-1" strike="noStrike">
                <a:solidFill>
                  <a:srgbClr val="000000"/>
                </a:solidFill>
                <a:latin typeface="Georgi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Торегожина Арстана Едигеевич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00040" y="214200"/>
            <a:ext cx="82296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я дальнейшей работы</a:t>
            </a:r>
            <a:endParaRPr b="0" lang="en-US" sz="3300" spc="-1" strike="noStrike">
              <a:solidFill>
                <a:srgbClr val="000000"/>
              </a:solidFill>
              <a:latin typeface="Arial"/>
            </a:endParaRPr>
          </a:p>
        </p:txBody>
      </p:sp>
      <p:sp>
        <p:nvSpPr>
          <p:cNvPr id="727" name=""/>
          <p:cNvSpPr txBox="1"/>
          <p:nvPr/>
        </p:nvSpPr>
        <p:spPr>
          <a:xfrm>
            <a:off x="285480" y="1785600"/>
            <a:ext cx="8504280" cy="35449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инарные разрешающие диаграммы</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рафология</a:t>
            </a:r>
            <a:endParaRPr b="0" lang="en-US" sz="2400" spc="-1" strike="noStrike">
              <a:solidFill>
                <a:srgbClr val="000000"/>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висимость скорости ввода слов от их смысла</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агностирование заболеваний</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сихологический анализ</a:t>
            </a:r>
            <a:endParaRPr b="0" lang="en-US" sz="2000" spc="-1" strike="noStrike">
              <a:solidFill>
                <a:srgbClr val="646b86"/>
              </a:solidFill>
              <a:latin typeface="Georgia"/>
            </a:endParaRPr>
          </a:p>
        </p:txBody>
      </p:sp>
      <p:sp>
        <p:nvSpPr>
          <p:cNvPr id="728" name="Rectangle 4"/>
          <p:cNvSpPr/>
          <p:nvPr/>
        </p:nvSpPr>
        <p:spPr>
          <a:xfrm>
            <a:off x="428760" y="471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Введение</a:t>
            </a:r>
            <a:endParaRPr b="0" lang="en-US" sz="3300" spc="-1" strike="noStrike">
              <a:solidFill>
                <a:srgbClr val="7b9899"/>
              </a:solidFill>
              <a:latin typeface="Georgia"/>
            </a:endParaRPr>
          </a:p>
        </p:txBody>
      </p:sp>
      <p:sp>
        <p:nvSpPr>
          <p:cNvPr id="619" name=""/>
          <p:cNvSpPr txBox="1"/>
          <p:nvPr/>
        </p:nvSpPr>
        <p:spPr>
          <a:xfrm>
            <a:off x="2999880" y="1714680"/>
            <a:ext cx="3429000" cy="6156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Аутентификаци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0" name="Рисунок 3" descr="authentication.jpg"/>
          <p:cNvPicPr/>
          <p:nvPr/>
        </p:nvPicPr>
        <p:blipFill>
          <a:blip r:embed="rId1"/>
          <a:stretch/>
        </p:blipFill>
        <p:spPr>
          <a:xfrm>
            <a:off x="281160" y="2567160"/>
            <a:ext cx="2938320" cy="2084040"/>
          </a:xfrm>
          <a:prstGeom prst="rect">
            <a:avLst/>
          </a:prstGeom>
          <a:ln w="0">
            <a:noFill/>
          </a:ln>
        </p:spPr>
      </p:pic>
      <p:pic>
        <p:nvPicPr>
          <p:cNvPr id="621" name="Рисунок 4" descr="campus_xp_authentication.jpg"/>
          <p:cNvPicPr/>
          <p:nvPr/>
        </p:nvPicPr>
        <p:blipFill>
          <a:blip r:embed="rId2"/>
          <a:stretch/>
        </p:blipFill>
        <p:spPr>
          <a:xfrm>
            <a:off x="3357720" y="3929040"/>
            <a:ext cx="2658960" cy="2355840"/>
          </a:xfrm>
          <a:prstGeom prst="rect">
            <a:avLst/>
          </a:prstGeom>
          <a:ln w="0">
            <a:noFill/>
          </a:ln>
        </p:spPr>
      </p:pic>
      <p:pic>
        <p:nvPicPr>
          <p:cNvPr id="622" name="Рисунок 5" descr="two-factor-authentication.gif"/>
          <p:cNvPicPr/>
          <p:nvPr/>
        </p:nvPicPr>
        <p:blipFill>
          <a:blip r:embed="rId3"/>
          <a:stretch/>
        </p:blipFill>
        <p:spPr>
          <a:xfrm>
            <a:off x="6572160" y="3571920"/>
            <a:ext cx="2065320" cy="1806480"/>
          </a:xfrm>
          <a:prstGeom prst="rect">
            <a:avLst/>
          </a:prstGeom>
          <a:ln w="0">
            <a:noFill/>
          </a:ln>
        </p:spPr>
      </p:pic>
      <p:cxnSp>
        <p:nvCxnSpPr>
          <p:cNvPr id="623" name="Прямая со стрелкой 10"/>
          <p:cNvCxnSpPr>
            <a:stCxn id="619" idx="2"/>
          </p:cNvCxnSpPr>
          <p:nvPr/>
        </p:nvCxnSpPr>
        <p:spPr>
          <a:xfrm flipH="1">
            <a:off x="4685760" y="2329920"/>
            <a:ext cx="29160" cy="1599480"/>
          </a:xfrm>
          <a:prstGeom prst="straightConnector1">
            <a:avLst/>
          </a:prstGeom>
          <a:ln w="9360">
            <a:solidFill>
              <a:srgbClr val="000000"/>
            </a:solidFill>
            <a:miter/>
            <a:tailEnd len="med" type="arrow" w="med"/>
          </a:ln>
        </p:spPr>
      </p:cxnSp>
      <p:cxnSp>
        <p:nvCxnSpPr>
          <p:cNvPr id="624" name="Прямая со стрелкой 12"/>
          <p:cNvCxnSpPr>
            <a:stCxn id="619" idx="2"/>
          </p:cNvCxnSpPr>
          <p:nvPr/>
        </p:nvCxnSpPr>
        <p:spPr>
          <a:xfrm>
            <a:off x="4714920" y="2329920"/>
            <a:ext cx="2890080" cy="1242000"/>
          </a:xfrm>
          <a:prstGeom prst="straightConnector1">
            <a:avLst/>
          </a:prstGeom>
          <a:ln w="9360">
            <a:solidFill>
              <a:srgbClr val="000000"/>
            </a:solidFill>
            <a:miter/>
            <a:tailEnd len="med" type="arrow" w="med"/>
          </a:ln>
        </p:spPr>
      </p:cxnSp>
      <p:cxnSp>
        <p:nvCxnSpPr>
          <p:cNvPr id="625" name="Прямая со стрелкой 14"/>
          <p:cNvCxnSpPr>
            <a:stCxn id="619" idx="2"/>
          </p:cNvCxnSpPr>
          <p:nvPr/>
        </p:nvCxnSpPr>
        <p:spPr>
          <a:xfrm flipH="1">
            <a:off x="2785680" y="2329920"/>
            <a:ext cx="1929600" cy="545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е работы</a:t>
            </a:r>
            <a:endParaRPr b="0" lang="en-US" sz="3300" spc="-1" strike="noStrike">
              <a:solidFill>
                <a:srgbClr val="7b9899"/>
              </a:solidFill>
              <a:latin typeface="Georgia"/>
            </a:endParaRPr>
          </a:p>
        </p:txBody>
      </p:sp>
      <p:pic>
        <p:nvPicPr>
          <p:cNvPr id="627" name="Рисунок 3" descr="picture_1.jpg"/>
          <p:cNvPicPr/>
          <p:nvPr/>
        </p:nvPicPr>
        <p:blipFill>
          <a:blip r:embed="rId1"/>
          <a:stretch/>
        </p:blipFill>
        <p:spPr>
          <a:xfrm>
            <a:off x="5572080" y="3929040"/>
            <a:ext cx="3200400" cy="2093760"/>
          </a:xfrm>
          <a:prstGeom prst="rect">
            <a:avLst/>
          </a:prstGeom>
          <a:ln w="0">
            <a:noFill/>
          </a:ln>
        </p:spPr>
      </p:pic>
      <p:sp>
        <p:nvSpPr>
          <p:cNvPr id="628" name="Содержимое 2"/>
          <p:cNvSpPr/>
          <p:nvPr/>
        </p:nvSpPr>
        <p:spPr>
          <a:xfrm>
            <a:off x="285840" y="1643040"/>
            <a:ext cx="8229600" cy="4071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едложить общедоступный подход к построению биометрических систем</a:t>
            </a:r>
            <a:endParaRPr b="0" lang="en-US" sz="24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ставляет из себя программное обеспечение</a:t>
            </a:r>
            <a:endParaRPr b="0" lang="en-US" sz="20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орудование ограничено клавиатурой</a:t>
            </a:r>
            <a:endParaRPr b="0" lang="en-US" sz="2000" spc="-1" strike="noStrike">
              <a:solidFill>
                <a:srgbClr val="000000"/>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удобство аутентификации</a:t>
            </a:r>
            <a:endParaRPr b="0" lang="en-US" sz="24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учение в процессе работы</a:t>
            </a:r>
            <a:endParaRPr b="0" lang="en-US" sz="20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намическая аутентификация </a:t>
            </a:r>
            <a:endParaRPr b="0" lang="en-US" sz="20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остановка задачи</a:t>
            </a:r>
            <a:endParaRPr b="0" lang="en-US" sz="3300" spc="-1" strike="noStrike">
              <a:solidFill>
                <a:srgbClr val="7b9899"/>
              </a:solidFill>
              <a:latin typeface="Georgia"/>
            </a:endParaRPr>
          </a:p>
        </p:txBody>
      </p:sp>
      <p:sp>
        <p:nvSpPr>
          <p:cNvPr id="630" name=""/>
          <p:cNvSpPr txBox="1"/>
          <p:nvPr/>
        </p:nvSpPr>
        <p:spPr>
          <a:xfrm>
            <a:off x="285840" y="1500120"/>
            <a:ext cx="8229600" cy="3286080"/>
          </a:xfrm>
          <a:prstGeom prst="rect">
            <a:avLst/>
          </a:prstGeom>
          <a:noFill/>
          <a:ln w="0">
            <a:noFill/>
          </a:ln>
        </p:spPr>
        <p:txBody>
          <a:bodyPr anchor="t">
            <a:normAutofit fontScale="89000"/>
          </a:bodyPr>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нализ параметров</a:t>
            </a:r>
            <a:r>
              <a:rPr b="0" lang="ru-RU" sz="2800" spc="-1" strike="noStrike">
                <a:solidFill>
                  <a:srgbClr val="000000"/>
                </a:solidFill>
                <a:latin typeface="Arial"/>
              </a:rPr>
              <a:t>,</a:t>
            </a:r>
            <a:r>
              <a:rPr b="0" lang="ru-RU" sz="2800" spc="-1" strike="noStrike">
                <a:solidFill>
                  <a:srgbClr val="000000"/>
                </a:solidFill>
                <a:latin typeface="Verdana"/>
              </a:rPr>
              <a:t> характеризующих клавиатурный почерк</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ка архитектуры нейронной сети, способной динамически определять пользователя по клавиатурному почерку</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ализация прототипа системы, способной успешно аутентифицировать пользователей по клавиатурному почерку</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85840" y="142920"/>
            <a:ext cx="88581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араметры</a:t>
            </a:r>
            <a:r>
              <a:rPr b="0" lang="ru-RU" sz="3300" spc="-1" strike="noStrike">
                <a:solidFill>
                  <a:srgbClr val="000000"/>
                </a:solidFill>
                <a:latin typeface="Arial"/>
              </a:rPr>
              <a:t>,</a:t>
            </a:r>
            <a:r>
              <a:rPr b="0" lang="ru-RU" sz="3300" spc="-1" strike="noStrike">
                <a:solidFill>
                  <a:srgbClr val="000000"/>
                </a:solidFill>
                <a:latin typeface="Verdana"/>
              </a:rPr>
              <a:t> характеризующие почерк</a:t>
            </a:r>
            <a:endParaRPr b="0" lang="en-US" sz="3300" spc="-1" strike="noStrike">
              <a:solidFill>
                <a:srgbClr val="7b9899"/>
              </a:solidFill>
              <a:latin typeface="Georgia"/>
            </a:endParaRPr>
          </a:p>
        </p:txBody>
      </p:sp>
      <p:sp>
        <p:nvSpPr>
          <p:cNvPr id="632" name=""/>
          <p:cNvSpPr txBox="1"/>
          <p:nvPr/>
        </p:nvSpPr>
        <p:spPr>
          <a:xfrm>
            <a:off x="285480" y="1500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между нажатиями</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удержания клавиши нажатой</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Рит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дн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оследовательности букв</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риложение, в котором пользователь печатает</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ень недел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56760" y="356760"/>
            <a:ext cx="853452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Основные</a:t>
            </a:r>
            <a:r>
              <a:rPr b="0" lang="ru-RU" sz="3300" spc="-1" strike="noStrike">
                <a:solidFill>
                  <a:srgbClr val="000000"/>
                </a:solidFill>
                <a:latin typeface="Georgia"/>
              </a:rPr>
              <a:t> </a:t>
            </a:r>
            <a:r>
              <a:rPr b="0" lang="ru-RU" sz="3300" spc="-1" strike="noStrike">
                <a:solidFill>
                  <a:srgbClr val="000000"/>
                </a:solidFill>
                <a:latin typeface="Verdana"/>
              </a:rPr>
              <a:t>концепции нейронной сети</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бучение с учителе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тсутствие рекурсий и возвратов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Нейронная сеть работает с параметрами</a:t>
            </a:r>
            <a:r>
              <a:rPr b="0" lang="en-US" sz="2700" spc="-1" strike="noStrike">
                <a:solidFill>
                  <a:srgbClr val="000000"/>
                </a:solidFill>
                <a:latin typeface="Verdana"/>
                <a:ea typeface="Verdana"/>
              </a:rPr>
              <a:t>,</a:t>
            </a:r>
            <a:r>
              <a:rPr b="0" lang="ru-RU" sz="2700" spc="-1" strike="noStrike">
                <a:solidFill>
                  <a:srgbClr val="000000"/>
                </a:solidFill>
                <a:latin typeface="Verdana"/>
                <a:ea typeface="Verdana"/>
              </a:rPr>
              <a:t> характеризующими почерк</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Длина слова, подаваемая на вход нейронной сети, равна трём символам</a:t>
            </a:r>
            <a:endParaRPr b="0" lang="en-US" sz="2700" spc="-1" strike="noStrike">
              <a:solidFill>
                <a:srgbClr val="000000"/>
              </a:solidFill>
              <a:latin typeface="Georgia"/>
            </a:endParaRPr>
          </a:p>
          <a:p>
            <a:pPr lvl="1" marL="7300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Verdana"/>
              </a:rPr>
              <a:t>минимальная длина слова для замера ритма</a:t>
            </a:r>
            <a:endParaRPr b="0" lang="en-US" sz="2400" spc="-1" strike="noStrike">
              <a:solidFill>
                <a:srgbClr val="646b86"/>
              </a:solidFill>
              <a:latin typeface="Georgia"/>
            </a:endParaRPr>
          </a:p>
          <a:p>
            <a:pPr lvl="1" marL="73008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42920"/>
            <a:ext cx="914400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Механизм поиска оптимальной нейронной сети</a:t>
            </a:r>
            <a:endParaRPr b="0" lang="en-US" sz="2600" spc="-1" strike="noStrike">
              <a:solidFill>
                <a:srgbClr val="7b9899"/>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Блок-схема: узел 5"/>
          <p:cNvSpPr/>
          <p:nvPr/>
        </p:nvSpPr>
        <p:spPr>
          <a:xfrm>
            <a:off x="285840" y="2000160"/>
            <a:ext cx="357120" cy="357120"/>
          </a:xfrm>
          <a:prstGeom prst="flowChartConnector">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ало</a:t>
            </a:r>
            <a:endParaRPr b="0" lang="en-US" sz="1800" spc="-1" strike="noStrike">
              <a:solidFill>
                <a:srgbClr val="000000"/>
              </a:solidFill>
              <a:latin typeface="Arial"/>
            </a:endParaRPr>
          </a:p>
        </p:txBody>
      </p:sp>
      <p:sp>
        <p:nvSpPr>
          <p:cNvPr id="639" name="Блок-схема: узел суммирования 6"/>
          <p:cNvSpPr/>
          <p:nvPr/>
        </p:nvSpPr>
        <p:spPr>
          <a:xfrm>
            <a:off x="285840" y="5500800"/>
            <a:ext cx="357120" cy="357120"/>
          </a:xfrm>
          <a:prstGeom prst="flowChartSummingJunct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онец</a:t>
            </a:r>
            <a:endParaRPr b="0" lang="en-US" sz="1800" spc="-1" strike="noStrike">
              <a:solidFill>
                <a:srgbClr val="000000"/>
              </a:solidFill>
              <a:latin typeface="Arial"/>
            </a:endParaRPr>
          </a:p>
        </p:txBody>
      </p:sp>
      <p:sp>
        <p:nvSpPr>
          <p:cNvPr id="640" name="Скругленный прямоугольник 7"/>
          <p:cNvSpPr/>
          <p:nvPr/>
        </p:nvSpPr>
        <p:spPr>
          <a:xfrm>
            <a:off x="121428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Генерация схемы нейронной сети</a:t>
            </a:r>
            <a:endParaRPr b="0" lang="en-US" sz="1800" spc="-1" strike="noStrike">
              <a:solidFill>
                <a:srgbClr val="000000"/>
              </a:solidFill>
              <a:latin typeface="Arial"/>
            </a:endParaRPr>
          </a:p>
        </p:txBody>
      </p:sp>
      <p:sp>
        <p:nvSpPr>
          <p:cNvPr id="641" name="Скругленный прямоугольник 8"/>
          <p:cNvSpPr/>
          <p:nvPr/>
        </p:nvSpPr>
        <p:spPr>
          <a:xfrm>
            <a:off x="642924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числение качества и запись в лог</a:t>
            </a:r>
            <a:endParaRPr b="0" lang="en-US" sz="1800" spc="-1" strike="noStrike">
              <a:solidFill>
                <a:srgbClr val="000000"/>
              </a:solidFill>
              <a:latin typeface="Arial"/>
            </a:endParaRPr>
          </a:p>
        </p:txBody>
      </p:sp>
      <p:sp>
        <p:nvSpPr>
          <p:cNvPr id="642" name="Скругленный прямоугольник 9"/>
          <p:cNvSpPr/>
          <p:nvPr/>
        </p:nvSpPr>
        <p:spPr>
          <a:xfrm>
            <a:off x="6286680" y="5214960"/>
            <a:ext cx="2643120" cy="1357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равнение качества с предыдущей нейронной сетью</a:t>
            </a:r>
            <a:endParaRPr b="0" lang="en-US" sz="1800" spc="-1" strike="noStrike">
              <a:solidFill>
                <a:srgbClr val="000000"/>
              </a:solidFill>
              <a:latin typeface="Arial"/>
            </a:endParaRPr>
          </a:p>
        </p:txBody>
      </p:sp>
      <p:sp>
        <p:nvSpPr>
          <p:cNvPr id="643" name="Скругленный прямоугольник 10"/>
          <p:cNvSpPr/>
          <p:nvPr/>
        </p:nvSpPr>
        <p:spPr>
          <a:xfrm>
            <a:off x="3643200" y="3357720"/>
            <a:ext cx="228600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охранение нейронной сети</a:t>
            </a:r>
            <a:endParaRPr b="0" lang="en-US" sz="1800" spc="-1" strike="noStrike">
              <a:solidFill>
                <a:srgbClr val="000000"/>
              </a:solidFill>
              <a:latin typeface="Arial"/>
            </a:endParaRPr>
          </a:p>
        </p:txBody>
      </p:sp>
      <p:sp>
        <p:nvSpPr>
          <p:cNvPr id="644" name="Скругленный прямоугольник 11"/>
          <p:cNvSpPr/>
          <p:nvPr/>
        </p:nvSpPr>
        <p:spPr>
          <a:xfrm>
            <a:off x="785880" y="5143680"/>
            <a:ext cx="2428920" cy="1500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даление полученной нейронной сети</a:t>
            </a:r>
            <a:endParaRPr b="0" lang="en-US" sz="1800" spc="-1" strike="noStrike">
              <a:solidFill>
                <a:srgbClr val="000000"/>
              </a:solidFill>
              <a:latin typeface="Arial"/>
            </a:endParaRPr>
          </a:p>
        </p:txBody>
      </p:sp>
      <p:cxnSp>
        <p:nvCxnSpPr>
          <p:cNvPr id="645" name="Прямая со стрелкой 17"/>
          <p:cNvCxnSpPr/>
          <p:nvPr/>
        </p:nvCxnSpPr>
        <p:spPr>
          <a:xfrm>
            <a:off x="642600" y="2142720"/>
            <a:ext cx="572040" cy="2520"/>
          </a:xfrm>
          <a:prstGeom prst="straightConnector1">
            <a:avLst/>
          </a:prstGeom>
          <a:ln w="25560">
            <a:solidFill>
              <a:srgbClr val="000000"/>
            </a:solidFill>
            <a:miter/>
            <a:tailEnd len="med" type="triangle" w="med"/>
          </a:ln>
        </p:spPr>
      </p:cxnSp>
      <p:cxnSp>
        <p:nvCxnSpPr>
          <p:cNvPr id="646" name="Прямая со стрелкой 19"/>
          <p:cNvCxnSpPr>
            <a:stCxn id="640" idx="3"/>
            <a:endCxn id="641" idx="1"/>
          </p:cNvCxnSpPr>
          <p:nvPr/>
        </p:nvCxnSpPr>
        <p:spPr>
          <a:xfrm>
            <a:off x="3714840" y="2142720"/>
            <a:ext cx="2715120" cy="2520"/>
          </a:xfrm>
          <a:prstGeom prst="bentConnector3">
            <a:avLst>
              <a:gd name="adj1" fmla="val 49993"/>
            </a:avLst>
          </a:prstGeom>
          <a:ln w="25560">
            <a:solidFill>
              <a:srgbClr val="000000"/>
            </a:solidFill>
            <a:miter/>
            <a:tailEnd len="med" type="triangle" w="med"/>
          </a:ln>
        </p:spPr>
      </p:cxnSp>
      <p:cxnSp>
        <p:nvCxnSpPr>
          <p:cNvPr id="647" name="Прямая со стрелкой 21"/>
          <p:cNvCxnSpPr/>
          <p:nvPr/>
        </p:nvCxnSpPr>
        <p:spPr>
          <a:xfrm rot="5400000">
            <a:off x="7465320" y="2891880"/>
            <a:ext cx="214920" cy="2520"/>
          </a:xfrm>
          <a:prstGeom prst="bentConnector3">
            <a:avLst>
              <a:gd name="adj1" fmla="val 50000"/>
            </a:avLst>
          </a:prstGeom>
          <a:ln w="25560">
            <a:solidFill>
              <a:srgbClr val="000000"/>
            </a:solidFill>
            <a:miter/>
            <a:tailEnd len="med" type="triangle" w="med"/>
          </a:ln>
        </p:spPr>
      </p:cxnSp>
      <p:cxnSp>
        <p:nvCxnSpPr>
          <p:cNvPr id="648" name="Прямая со стрелкой 25"/>
          <p:cNvCxnSpPr>
            <a:stCxn id="642" idx="1"/>
            <a:endCxn id="649" idx="3"/>
          </p:cNvCxnSpPr>
          <p:nvPr/>
        </p:nvCxnSpPr>
        <p:spPr>
          <a:xfrm flipV="1" rot="10800000">
            <a:off x="6071400" y="5893200"/>
            <a:ext cx="215280" cy="1080"/>
          </a:xfrm>
          <a:prstGeom prst="bentConnector3">
            <a:avLst>
              <a:gd name="adj1" fmla="val 49916"/>
            </a:avLst>
          </a:prstGeom>
          <a:ln w="25560">
            <a:solidFill>
              <a:srgbClr val="000000"/>
            </a:solidFill>
            <a:miter/>
            <a:tailEnd len="med" type="triangle" w="med"/>
          </a:ln>
        </p:spPr>
      </p:cxnSp>
      <p:cxnSp>
        <p:nvCxnSpPr>
          <p:cNvPr id="650" name="Прямая со стрелкой 27"/>
          <p:cNvCxnSpPr>
            <a:stCxn id="651" idx="1"/>
            <a:endCxn id="639" idx="2"/>
          </p:cNvCxnSpPr>
          <p:nvPr/>
        </p:nvCxnSpPr>
        <p:spPr>
          <a:xfrm flipH="1" flipV="1" rot="10800000">
            <a:off x="284760" y="3891600"/>
            <a:ext cx="1080" cy="1788120"/>
          </a:xfrm>
          <a:prstGeom prst="bentConnector3">
            <a:avLst>
              <a:gd name="adj1" fmla="val -491050000"/>
            </a:avLst>
          </a:prstGeom>
          <a:ln w="25560">
            <a:solidFill>
              <a:srgbClr val="000000"/>
            </a:solidFill>
            <a:miter/>
            <a:tailEnd len="med" type="triangle" w="med"/>
          </a:ln>
        </p:spPr>
      </p:cxnSp>
      <p:cxnSp>
        <p:nvCxnSpPr>
          <p:cNvPr id="652" name="Соединительная линия уступом 31"/>
          <p:cNvCxnSpPr/>
          <p:nvPr/>
        </p:nvCxnSpPr>
        <p:spPr>
          <a:xfrm flipH="1" flipV="1" rot="5400000">
            <a:off x="4607640" y="4821120"/>
            <a:ext cx="643320" cy="2520"/>
          </a:xfrm>
          <a:prstGeom prst="bentConnector3">
            <a:avLst>
              <a:gd name="adj1" fmla="val 50000"/>
            </a:avLst>
          </a:prstGeom>
          <a:ln w="25560">
            <a:solidFill>
              <a:srgbClr val="000000"/>
            </a:solidFill>
            <a:miter/>
            <a:tailEnd len="med" type="triangle" w="med"/>
          </a:ln>
        </p:spPr>
      </p:cxnSp>
      <p:cxnSp>
        <p:nvCxnSpPr>
          <p:cNvPr id="653" name="Соединительная линия уступом 33"/>
          <p:cNvCxnSpPr>
            <a:stCxn id="649" idx="1"/>
            <a:endCxn id="644" idx="3"/>
          </p:cNvCxnSpPr>
          <p:nvPr/>
        </p:nvCxnSpPr>
        <p:spPr>
          <a:xfrm rot="10800000">
            <a:off x="3214080" y="5893560"/>
            <a:ext cx="500760" cy="1080"/>
          </a:xfrm>
          <a:prstGeom prst="bentConnector3">
            <a:avLst>
              <a:gd name="adj1" fmla="val 50000"/>
            </a:avLst>
          </a:prstGeom>
          <a:ln w="25560">
            <a:solidFill>
              <a:srgbClr val="000000"/>
            </a:solidFill>
            <a:miter/>
            <a:tailEnd len="med" type="triangle" w="med"/>
          </a:ln>
        </p:spPr>
      </p:cxnSp>
      <p:sp>
        <p:nvSpPr>
          <p:cNvPr id="654" name="TextBox 84"/>
          <p:cNvSpPr/>
          <p:nvPr/>
        </p:nvSpPr>
        <p:spPr>
          <a:xfrm>
            <a:off x="1785960" y="2786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5" name="TextBox 85"/>
          <p:cNvSpPr/>
          <p:nvPr/>
        </p:nvSpPr>
        <p:spPr>
          <a:xfrm>
            <a:off x="3214800" y="55008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6" name="TextBox 86"/>
          <p:cNvSpPr/>
          <p:nvPr/>
        </p:nvSpPr>
        <p:spPr>
          <a:xfrm>
            <a:off x="7643880" y="485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7" name="TextBox 87"/>
          <p:cNvSpPr/>
          <p:nvPr/>
        </p:nvSpPr>
        <p:spPr>
          <a:xfrm>
            <a:off x="36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8" name="TextBox 88"/>
          <p:cNvSpPr/>
          <p:nvPr/>
        </p:nvSpPr>
        <p:spPr>
          <a:xfrm>
            <a:off x="4932720" y="47149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9" name="TextBox 89"/>
          <p:cNvSpPr/>
          <p:nvPr/>
        </p:nvSpPr>
        <p:spPr>
          <a:xfrm>
            <a:off x="59328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grpSp>
        <p:nvGrpSpPr>
          <p:cNvPr id="660" name="Группа 217"/>
          <p:cNvGrpSpPr/>
          <p:nvPr/>
        </p:nvGrpSpPr>
        <p:grpSpPr>
          <a:xfrm>
            <a:off x="3714840" y="5143680"/>
            <a:ext cx="2571840" cy="1500120"/>
            <a:chOff x="3714840" y="5143680"/>
            <a:chExt cx="2571840" cy="1500120"/>
          </a:xfrm>
        </p:grpSpPr>
        <p:sp>
          <p:nvSpPr>
            <p:cNvPr id="649" name="Блок-схема: решение 15"/>
            <p:cNvSpPr/>
            <p:nvPr/>
          </p:nvSpPr>
          <p:spPr>
            <a:xfrm>
              <a:off x="3714840" y="5143680"/>
              <a:ext cx="2357640" cy="150012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90"/>
            <p:cNvSpPr/>
            <p:nvPr/>
          </p:nvSpPr>
          <p:spPr>
            <a:xfrm>
              <a:off x="4000320" y="5572080"/>
              <a:ext cx="22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е предыдущей?</a:t>
              </a:r>
              <a:endParaRPr b="0" lang="en-US" sz="1800" spc="-1" strike="noStrike">
                <a:solidFill>
                  <a:srgbClr val="000000"/>
                </a:solidFill>
                <a:latin typeface="Arial"/>
              </a:endParaRPr>
            </a:p>
          </p:txBody>
        </p:sp>
      </p:grpSp>
      <p:grpSp>
        <p:nvGrpSpPr>
          <p:cNvPr id="662" name="Группа 235"/>
          <p:cNvGrpSpPr/>
          <p:nvPr/>
        </p:nvGrpSpPr>
        <p:grpSpPr>
          <a:xfrm>
            <a:off x="5929200" y="3000240"/>
            <a:ext cx="3071880" cy="2215080"/>
            <a:chOff x="5929200" y="3000240"/>
            <a:chExt cx="3071880" cy="2215080"/>
          </a:xfrm>
        </p:grpSpPr>
        <p:cxnSp>
          <p:nvCxnSpPr>
            <p:cNvPr id="663" name="Shape 35"/>
            <p:cNvCxnSpPr/>
            <p:nvPr/>
          </p:nvCxnSpPr>
          <p:spPr>
            <a:xfrm>
              <a:off x="7634880" y="4857840"/>
              <a:ext cx="1080" cy="357840"/>
            </a:xfrm>
            <a:prstGeom prst="straightConnector1">
              <a:avLst/>
            </a:prstGeom>
            <a:ln w="25560">
              <a:solidFill>
                <a:srgbClr val="000000"/>
              </a:solidFill>
              <a:miter/>
              <a:tailEnd len="med" type="triangle" w="med"/>
            </a:ln>
          </p:spPr>
        </p:cxnSp>
        <p:grpSp>
          <p:nvGrpSpPr>
            <p:cNvPr id="664" name="Группа 228"/>
            <p:cNvGrpSpPr/>
            <p:nvPr/>
          </p:nvGrpSpPr>
          <p:grpSpPr>
            <a:xfrm>
              <a:off x="5929200" y="3000240"/>
              <a:ext cx="3071880" cy="1857600"/>
              <a:chOff x="5929200" y="3000240"/>
              <a:chExt cx="3071880" cy="1857600"/>
            </a:xfrm>
          </p:grpSpPr>
          <p:cxnSp>
            <p:nvCxnSpPr>
              <p:cNvPr id="665" name="Соединительная линия уступом 29"/>
              <p:cNvCxnSpPr/>
              <p:nvPr/>
            </p:nvCxnSpPr>
            <p:spPr>
              <a:xfrm flipV="1" rot="10800000">
                <a:off x="5929200" y="3927960"/>
                <a:ext cx="273240" cy="1080"/>
              </a:xfrm>
              <a:prstGeom prst="bentConnector3">
                <a:avLst>
                  <a:gd name="adj1" fmla="val 50000"/>
                </a:avLst>
              </a:prstGeom>
              <a:ln w="25560">
                <a:solidFill>
                  <a:srgbClr val="000000"/>
                </a:solidFill>
                <a:miter/>
                <a:tailEnd len="med" type="triangle" w="med"/>
              </a:ln>
            </p:spPr>
          </p:cxnSp>
          <p:grpSp>
            <p:nvGrpSpPr>
              <p:cNvPr id="666" name="Группа 204"/>
              <p:cNvGrpSpPr/>
              <p:nvPr/>
            </p:nvGrpSpPr>
            <p:grpSpPr>
              <a:xfrm>
                <a:off x="6202080" y="3000240"/>
                <a:ext cx="2799000" cy="1857600"/>
                <a:chOff x="6202080" y="3000240"/>
                <a:chExt cx="2799000" cy="1857600"/>
              </a:xfrm>
            </p:grpSpPr>
            <p:sp>
              <p:nvSpPr>
                <p:cNvPr id="667" name="Блок-схема: решение 14"/>
                <p:cNvSpPr/>
                <p:nvPr/>
              </p:nvSpPr>
              <p:spPr>
                <a:xfrm>
                  <a:off x="6202080" y="3000240"/>
                  <a:ext cx="2799000" cy="1857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1"/>
                <p:cNvSpPr/>
                <p:nvPr/>
              </p:nvSpPr>
              <p:spPr>
                <a:xfrm>
                  <a:off x="6505560" y="3743280"/>
                  <a:ext cx="22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итерация?</a:t>
                  </a:r>
                  <a:endParaRPr b="0" lang="en-US" sz="1800" spc="-1" strike="noStrike">
                    <a:solidFill>
                      <a:srgbClr val="000000"/>
                    </a:solidFill>
                    <a:latin typeface="Arial"/>
                  </a:endParaRPr>
                </a:p>
              </p:txBody>
            </p:sp>
          </p:grpSp>
        </p:grpSp>
      </p:grpSp>
      <p:grpSp>
        <p:nvGrpSpPr>
          <p:cNvPr id="669" name="Группа 258"/>
          <p:cNvGrpSpPr/>
          <p:nvPr/>
        </p:nvGrpSpPr>
        <p:grpSpPr>
          <a:xfrm>
            <a:off x="285840" y="2785320"/>
            <a:ext cx="3357360" cy="2358000"/>
            <a:chOff x="285840" y="2785320"/>
            <a:chExt cx="3357360" cy="2358000"/>
          </a:xfrm>
        </p:grpSpPr>
        <p:cxnSp>
          <p:nvCxnSpPr>
            <p:cNvPr id="670" name="Соединительная линия уступом 44"/>
            <p:cNvCxnSpPr>
              <a:endCxn id="651" idx="3"/>
            </p:cNvCxnSpPr>
            <p:nvPr/>
          </p:nvCxnSpPr>
          <p:spPr>
            <a:xfrm rot="10800000">
              <a:off x="3285360" y="3891960"/>
              <a:ext cx="357840" cy="5400"/>
            </a:xfrm>
            <a:prstGeom prst="bentConnector3">
              <a:avLst>
                <a:gd name="adj1" fmla="val 49949"/>
              </a:avLst>
            </a:prstGeom>
            <a:ln w="25560">
              <a:solidFill>
                <a:srgbClr val="000000"/>
              </a:solidFill>
              <a:miter/>
              <a:tailEnd len="med" type="triangle" w="med"/>
            </a:ln>
          </p:spPr>
        </p:cxnSp>
        <p:grpSp>
          <p:nvGrpSpPr>
            <p:cNvPr id="671" name="Группа 238"/>
            <p:cNvGrpSpPr/>
            <p:nvPr/>
          </p:nvGrpSpPr>
          <p:grpSpPr>
            <a:xfrm>
              <a:off x="285840" y="2785320"/>
              <a:ext cx="3000240" cy="2358000"/>
              <a:chOff x="285840" y="2785320"/>
              <a:chExt cx="3000240" cy="2358000"/>
            </a:xfrm>
          </p:grpSpPr>
          <p:cxnSp>
            <p:nvCxnSpPr>
              <p:cNvPr id="672" name="Прямая со стрелкой 23"/>
              <p:cNvCxnSpPr>
                <a:stCxn id="651" idx="0"/>
              </p:cNvCxnSpPr>
              <p:nvPr/>
            </p:nvCxnSpPr>
            <p:spPr>
              <a:xfrm flipV="1">
                <a:off x="1784880" y="2785320"/>
                <a:ext cx="1080" cy="286200"/>
              </a:xfrm>
              <a:prstGeom prst="straightConnector1">
                <a:avLst/>
              </a:prstGeom>
              <a:ln w="25560">
                <a:solidFill>
                  <a:srgbClr val="000000"/>
                </a:solidFill>
                <a:miter/>
                <a:tailEnd len="med" type="triangle" w="med"/>
              </a:ln>
            </p:spPr>
          </p:cxnSp>
          <p:cxnSp>
            <p:nvCxnSpPr>
              <p:cNvPr id="673" name="Shape 46"/>
              <p:cNvCxnSpPr>
                <a:endCxn id="651" idx="2"/>
              </p:cNvCxnSpPr>
              <p:nvPr/>
            </p:nvCxnSpPr>
            <p:spPr>
              <a:xfrm flipV="1" rot="16200000">
                <a:off x="1570320" y="4927680"/>
                <a:ext cx="430920" cy="1080"/>
              </a:xfrm>
              <a:prstGeom prst="bentConnector3">
                <a:avLst>
                  <a:gd name="adj1" fmla="val 50000"/>
                </a:avLst>
              </a:prstGeom>
              <a:ln w="25560">
                <a:solidFill>
                  <a:srgbClr val="000000"/>
                </a:solidFill>
                <a:miter/>
                <a:tailEnd len="med" type="triangle" w="med"/>
              </a:ln>
            </p:spPr>
          </p:cxnSp>
          <p:grpSp>
            <p:nvGrpSpPr>
              <p:cNvPr id="674" name="Группа 203"/>
              <p:cNvGrpSpPr/>
              <p:nvPr/>
            </p:nvGrpSpPr>
            <p:grpSpPr>
              <a:xfrm>
                <a:off x="285840" y="3071520"/>
                <a:ext cx="3000240" cy="1641600"/>
                <a:chOff x="285840" y="3071520"/>
                <a:chExt cx="3000240" cy="1641600"/>
              </a:xfrm>
            </p:grpSpPr>
            <p:sp>
              <p:nvSpPr>
                <p:cNvPr id="651" name="Блок-схема: решение 12"/>
                <p:cNvSpPr/>
                <p:nvPr/>
              </p:nvSpPr>
              <p:spPr>
                <a:xfrm>
                  <a:off x="285840" y="3071520"/>
                  <a:ext cx="3000240" cy="1641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92"/>
                <p:cNvSpPr/>
                <p:nvPr/>
              </p:nvSpPr>
              <p:spPr>
                <a:xfrm>
                  <a:off x="642960" y="35708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мер итерации превысил лимит?</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57120" y="357120"/>
            <a:ext cx="8501040" cy="7588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ханизм распознавания пользователя с использованием нейронной сети</a:t>
            </a:r>
            <a:endParaRPr b="0" lang="en-US" sz="2800" spc="-1" strike="noStrike">
              <a:solidFill>
                <a:srgbClr val="7b9899"/>
              </a:solidFill>
              <a:latin typeface="Georgia"/>
            </a:endParaRPr>
          </a:p>
        </p:txBody>
      </p:sp>
      <p:sp>
        <p:nvSpPr>
          <p:cNvPr id="677" name="Улыбающееся лицо 3"/>
          <p:cNvSpPr/>
          <p:nvPr/>
        </p:nvSpPr>
        <p:spPr>
          <a:xfrm>
            <a:off x="357120" y="1500120"/>
            <a:ext cx="571680" cy="571680"/>
          </a:xfrm>
          <a:prstGeom prst="smileyFace">
            <a:avLst>
              <a:gd name="adj" fmla="val 9282"/>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Блок-схема: процесс 4"/>
          <p:cNvSpPr/>
          <p:nvPr/>
        </p:nvSpPr>
        <p:spPr>
          <a:xfrm>
            <a:off x="12859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ханизм сбора данных</a:t>
            </a:r>
            <a:endParaRPr b="0" lang="en-US" sz="1400" spc="-1" strike="noStrike">
              <a:solidFill>
                <a:srgbClr val="000000"/>
              </a:solidFill>
              <a:latin typeface="Arial"/>
            </a:endParaRPr>
          </a:p>
        </p:txBody>
      </p:sp>
      <p:sp>
        <p:nvSpPr>
          <p:cNvPr id="679" name="Прямая соединительная линия 7"/>
          <p:cNvSpPr/>
          <p:nvPr/>
        </p:nvSpPr>
        <p:spPr>
          <a:xfrm flipH="1">
            <a:off x="19285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Блок-схема: процесс 9"/>
          <p:cNvSpPr/>
          <p:nvPr/>
        </p:nvSpPr>
        <p:spPr>
          <a:xfrm>
            <a:off x="328608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Анализатор</a:t>
            </a:r>
            <a:endParaRPr b="0" lang="en-US" sz="1400" spc="-1" strike="noStrike">
              <a:solidFill>
                <a:srgbClr val="000000"/>
              </a:solidFill>
              <a:latin typeface="Arial"/>
            </a:endParaRPr>
          </a:p>
        </p:txBody>
      </p:sp>
      <p:sp>
        <p:nvSpPr>
          <p:cNvPr id="681" name="Прямая соединительная линия 10"/>
          <p:cNvSpPr/>
          <p:nvPr/>
        </p:nvSpPr>
        <p:spPr>
          <a:xfrm flipH="1">
            <a:off x="392868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Блок-схема: процесс 11"/>
          <p:cNvSpPr/>
          <p:nvPr/>
        </p:nvSpPr>
        <p:spPr>
          <a:xfrm>
            <a:off x="521496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Нейронная сеть</a:t>
            </a:r>
            <a:endParaRPr b="0" lang="en-US" sz="1400" spc="-1" strike="noStrike">
              <a:solidFill>
                <a:srgbClr val="000000"/>
              </a:solidFill>
              <a:latin typeface="Arial"/>
            </a:endParaRPr>
          </a:p>
        </p:txBody>
      </p:sp>
      <p:sp>
        <p:nvSpPr>
          <p:cNvPr id="683" name="Прямая соединительная линия 12"/>
          <p:cNvSpPr/>
          <p:nvPr/>
        </p:nvSpPr>
        <p:spPr>
          <a:xfrm>
            <a:off x="589356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Блок-схема: процесс 13"/>
          <p:cNvSpPr/>
          <p:nvPr/>
        </p:nvSpPr>
        <p:spPr>
          <a:xfrm>
            <a:off x="67867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неджер принятия решений</a:t>
            </a:r>
            <a:endParaRPr b="0" lang="en-US" sz="1400" spc="-1" strike="noStrike">
              <a:solidFill>
                <a:srgbClr val="000000"/>
              </a:solidFill>
              <a:latin typeface="Arial"/>
            </a:endParaRPr>
          </a:p>
        </p:txBody>
      </p:sp>
      <p:sp>
        <p:nvSpPr>
          <p:cNvPr id="685" name="Прямая соединительная линия 14"/>
          <p:cNvSpPr/>
          <p:nvPr/>
        </p:nvSpPr>
        <p:spPr>
          <a:xfrm flipH="1">
            <a:off x="7429320" y="2357280"/>
            <a:ext cx="3636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Прямая соединительная линия 20"/>
          <p:cNvSpPr/>
          <p:nvPr/>
        </p:nvSpPr>
        <p:spPr>
          <a:xfrm flipH="1">
            <a:off x="5713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Box 21"/>
          <p:cNvSpPr/>
          <p:nvPr/>
        </p:nvSpPr>
        <p:spPr>
          <a:xfrm>
            <a:off x="139680" y="2071800"/>
            <a:ext cx="118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ь</a:t>
            </a:r>
            <a:endParaRPr b="0" lang="en-US" sz="1200" spc="-1" strike="noStrike">
              <a:solidFill>
                <a:srgbClr val="000000"/>
              </a:solidFill>
              <a:latin typeface="Arial"/>
            </a:endParaRPr>
          </a:p>
        </p:txBody>
      </p:sp>
      <p:cxnSp>
        <p:nvCxnSpPr>
          <p:cNvPr id="688" name="Прямая со стрелкой 23"/>
          <p:cNvCxnSpPr/>
          <p:nvPr/>
        </p:nvCxnSpPr>
        <p:spPr>
          <a:xfrm>
            <a:off x="642600" y="2786040"/>
            <a:ext cx="1215000" cy="2160"/>
          </a:xfrm>
          <a:prstGeom prst="straightConnector1">
            <a:avLst/>
          </a:prstGeom>
          <a:ln w="19080">
            <a:solidFill>
              <a:srgbClr val="000000"/>
            </a:solidFill>
            <a:miter/>
            <a:tailEnd len="med" type="arrow" w="med"/>
          </a:ln>
        </p:spPr>
      </p:cxnSp>
      <p:cxnSp>
        <p:nvCxnSpPr>
          <p:cNvPr id="689" name="Прямая со стрелкой 24"/>
          <p:cNvCxnSpPr/>
          <p:nvPr/>
        </p:nvCxnSpPr>
        <p:spPr>
          <a:xfrm>
            <a:off x="3929040" y="3642840"/>
            <a:ext cx="1929600" cy="2520"/>
          </a:xfrm>
          <a:prstGeom prst="straightConnector1">
            <a:avLst/>
          </a:prstGeom>
          <a:ln w="19080">
            <a:solidFill>
              <a:srgbClr val="000000"/>
            </a:solidFill>
            <a:miter/>
            <a:tailEnd len="med" type="arrow" w="med"/>
          </a:ln>
        </p:spPr>
      </p:cxnSp>
      <p:cxnSp>
        <p:nvCxnSpPr>
          <p:cNvPr id="690" name="Прямая со стрелкой 26"/>
          <p:cNvCxnSpPr/>
          <p:nvPr/>
        </p:nvCxnSpPr>
        <p:spPr>
          <a:xfrm>
            <a:off x="2000160" y="3429000"/>
            <a:ext cx="1858320" cy="2160"/>
          </a:xfrm>
          <a:prstGeom prst="straightConnector1">
            <a:avLst/>
          </a:prstGeom>
          <a:ln w="19080">
            <a:solidFill>
              <a:srgbClr val="000000"/>
            </a:solidFill>
            <a:miter/>
            <a:tailEnd len="med" type="arrow" w="med"/>
          </a:ln>
        </p:spPr>
      </p:cxnSp>
      <p:cxnSp>
        <p:nvCxnSpPr>
          <p:cNvPr id="691" name="Прямая со стрелкой 27"/>
          <p:cNvCxnSpPr/>
          <p:nvPr/>
        </p:nvCxnSpPr>
        <p:spPr>
          <a:xfrm>
            <a:off x="3928680" y="5285880"/>
            <a:ext cx="3429720" cy="1080"/>
          </a:xfrm>
          <a:prstGeom prst="straightConnector1">
            <a:avLst/>
          </a:prstGeom>
          <a:ln w="19080">
            <a:solidFill>
              <a:srgbClr val="000000"/>
            </a:solidFill>
            <a:miter/>
            <a:tailEnd len="med" type="arrow" w="med"/>
          </a:ln>
        </p:spPr>
      </p:cxnSp>
      <p:grpSp>
        <p:nvGrpSpPr>
          <p:cNvPr id="692" name="Группа 61"/>
          <p:cNvGrpSpPr/>
          <p:nvPr/>
        </p:nvGrpSpPr>
        <p:grpSpPr>
          <a:xfrm>
            <a:off x="2000160" y="3000240"/>
            <a:ext cx="642960" cy="216000"/>
            <a:chOff x="2000160" y="3000240"/>
            <a:chExt cx="642960" cy="216000"/>
          </a:xfrm>
        </p:grpSpPr>
        <p:sp>
          <p:nvSpPr>
            <p:cNvPr id="693" name="Прямая соединительная линия 56"/>
            <p:cNvSpPr/>
            <p:nvPr/>
          </p:nvSpPr>
          <p:spPr>
            <a:xfrm>
              <a:off x="2000160" y="30002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Прямая соединительная линия 58"/>
            <p:cNvSpPr/>
            <p:nvPr/>
          </p:nvSpPr>
          <p:spPr>
            <a:xfrm>
              <a:off x="2643120" y="300024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Прямая со стрелкой 60"/>
            <p:cNvCxnSpPr/>
            <p:nvPr/>
          </p:nvCxnSpPr>
          <p:spPr>
            <a:xfrm flipH="1" flipV="1">
              <a:off x="2000160" y="3214440"/>
              <a:ext cx="643320" cy="2160"/>
            </a:xfrm>
            <a:prstGeom prst="straightConnector1">
              <a:avLst/>
            </a:prstGeom>
            <a:ln w="19080">
              <a:solidFill>
                <a:srgbClr val="000000"/>
              </a:solidFill>
              <a:miter/>
              <a:tailEnd len="med" type="arrow" w="med"/>
            </a:ln>
          </p:spPr>
        </p:cxnSp>
      </p:grpSp>
      <p:grpSp>
        <p:nvGrpSpPr>
          <p:cNvPr id="696" name="Группа 62"/>
          <p:cNvGrpSpPr/>
          <p:nvPr/>
        </p:nvGrpSpPr>
        <p:grpSpPr>
          <a:xfrm>
            <a:off x="4071960" y="4429080"/>
            <a:ext cx="642960" cy="216000"/>
            <a:chOff x="4071960" y="4429080"/>
            <a:chExt cx="642960" cy="216000"/>
          </a:xfrm>
        </p:grpSpPr>
        <p:sp>
          <p:nvSpPr>
            <p:cNvPr id="697" name="Прямая соединительная линия 63"/>
            <p:cNvSpPr/>
            <p:nvPr/>
          </p:nvSpPr>
          <p:spPr>
            <a:xfrm>
              <a:off x="4071960" y="44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Прямая соединительная линия 64"/>
            <p:cNvSpPr/>
            <p:nvPr/>
          </p:nvSpPr>
          <p:spPr>
            <a:xfrm>
              <a:off x="4714920" y="442908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9" name="Прямая со стрелкой 65"/>
            <p:cNvCxnSpPr/>
            <p:nvPr/>
          </p:nvCxnSpPr>
          <p:spPr>
            <a:xfrm flipH="1" flipV="1">
              <a:off x="4071960" y="4643280"/>
              <a:ext cx="643320" cy="2160"/>
            </a:xfrm>
            <a:prstGeom prst="straightConnector1">
              <a:avLst/>
            </a:prstGeom>
            <a:ln w="19080">
              <a:solidFill>
                <a:srgbClr val="000000"/>
              </a:solidFill>
              <a:miter/>
              <a:tailEnd len="med" type="arrow" w="med"/>
            </a:ln>
          </p:spPr>
        </p:cxnSp>
      </p:grpSp>
      <p:cxnSp>
        <p:nvCxnSpPr>
          <p:cNvPr id="700" name="Прямая со стрелкой 67"/>
          <p:cNvCxnSpPr/>
          <p:nvPr/>
        </p:nvCxnSpPr>
        <p:spPr>
          <a:xfrm flipH="1" flipV="1">
            <a:off x="4071240" y="4285440"/>
            <a:ext cx="1786680" cy="2520"/>
          </a:xfrm>
          <a:prstGeom prst="straightConnector1">
            <a:avLst/>
          </a:prstGeom>
          <a:ln w="19080">
            <a:solidFill>
              <a:srgbClr val="000000"/>
            </a:solidFill>
            <a:miter/>
            <a:tailEnd len="med" type="arrow" w="med"/>
          </a:ln>
        </p:spPr>
      </p:cxnSp>
      <p:grpSp>
        <p:nvGrpSpPr>
          <p:cNvPr id="701" name="Группа 68"/>
          <p:cNvGrpSpPr/>
          <p:nvPr/>
        </p:nvGrpSpPr>
        <p:grpSpPr>
          <a:xfrm>
            <a:off x="6000840" y="3857760"/>
            <a:ext cx="642960" cy="215640"/>
            <a:chOff x="6000840" y="3857760"/>
            <a:chExt cx="642960" cy="215640"/>
          </a:xfrm>
        </p:grpSpPr>
        <p:sp>
          <p:nvSpPr>
            <p:cNvPr id="702" name="Прямая соединительная линия 69"/>
            <p:cNvSpPr/>
            <p:nvPr/>
          </p:nvSpPr>
          <p:spPr>
            <a:xfrm>
              <a:off x="6000840" y="385776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Прямая соединительная линия 70"/>
            <p:cNvSpPr/>
            <p:nvPr/>
          </p:nvSpPr>
          <p:spPr>
            <a:xfrm>
              <a:off x="6643800" y="385776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4" name="Прямая со стрелкой 71"/>
            <p:cNvCxnSpPr/>
            <p:nvPr/>
          </p:nvCxnSpPr>
          <p:spPr>
            <a:xfrm flipH="1" flipV="1">
              <a:off x="6000840" y="4071600"/>
              <a:ext cx="643320" cy="2160"/>
            </a:xfrm>
            <a:prstGeom prst="straightConnector1">
              <a:avLst/>
            </a:prstGeom>
            <a:ln w="19080">
              <a:solidFill>
                <a:srgbClr val="000000"/>
              </a:solidFill>
              <a:miter/>
              <a:tailEnd len="med" type="arrow" w="med"/>
            </a:ln>
          </p:spPr>
        </p:cxnSp>
      </p:grpSp>
      <p:grpSp>
        <p:nvGrpSpPr>
          <p:cNvPr id="705" name="Группа 72"/>
          <p:cNvGrpSpPr/>
          <p:nvPr/>
        </p:nvGrpSpPr>
        <p:grpSpPr>
          <a:xfrm>
            <a:off x="7500960" y="5643720"/>
            <a:ext cx="642960" cy="215640"/>
            <a:chOff x="7500960" y="5643720"/>
            <a:chExt cx="642960" cy="215640"/>
          </a:xfrm>
        </p:grpSpPr>
        <p:sp>
          <p:nvSpPr>
            <p:cNvPr id="706" name="Прямая соединительная линия 73"/>
            <p:cNvSpPr/>
            <p:nvPr/>
          </p:nvSpPr>
          <p:spPr>
            <a:xfrm>
              <a:off x="7500960" y="564372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Прямая соединительная линия 74"/>
            <p:cNvSpPr/>
            <p:nvPr/>
          </p:nvSpPr>
          <p:spPr>
            <a:xfrm>
              <a:off x="8143920" y="564372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8" name="Прямая со стрелкой 75"/>
            <p:cNvCxnSpPr/>
            <p:nvPr/>
          </p:nvCxnSpPr>
          <p:spPr>
            <a:xfrm flipH="1" flipV="1">
              <a:off x="7500960" y="5857560"/>
              <a:ext cx="643320" cy="2160"/>
            </a:xfrm>
            <a:prstGeom prst="straightConnector1">
              <a:avLst/>
            </a:prstGeom>
            <a:ln w="19080">
              <a:solidFill>
                <a:srgbClr val="000000"/>
              </a:solidFill>
              <a:miter/>
              <a:tailEnd len="med" type="arrow" w="med"/>
            </a:ln>
          </p:spPr>
        </p:cxnSp>
      </p:grpSp>
      <p:sp>
        <p:nvSpPr>
          <p:cNvPr id="709" name="Прямоугольник 78"/>
          <p:cNvSpPr/>
          <p:nvPr/>
        </p:nvSpPr>
        <p:spPr>
          <a:xfrm>
            <a:off x="500040" y="2786040"/>
            <a:ext cx="142920" cy="35006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79"/>
          <p:cNvSpPr/>
          <p:nvPr/>
        </p:nvSpPr>
        <p:spPr>
          <a:xfrm>
            <a:off x="1857240" y="2714760"/>
            <a:ext cx="142920" cy="35719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82"/>
          <p:cNvSpPr/>
          <p:nvPr/>
        </p:nvSpPr>
        <p:spPr>
          <a:xfrm>
            <a:off x="3857760" y="3429000"/>
            <a:ext cx="142920" cy="28576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83"/>
          <p:cNvSpPr/>
          <p:nvPr/>
        </p:nvSpPr>
        <p:spPr>
          <a:xfrm>
            <a:off x="5857920" y="3500280"/>
            <a:ext cx="142920" cy="10717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Прямоугольник 84"/>
          <p:cNvSpPr/>
          <p:nvPr/>
        </p:nvSpPr>
        <p:spPr>
          <a:xfrm>
            <a:off x="7358040" y="5286240"/>
            <a:ext cx="142920" cy="10004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Прямоугольник 86"/>
          <p:cNvSpPr/>
          <p:nvPr/>
        </p:nvSpPr>
        <p:spPr>
          <a:xfrm>
            <a:off x="3929040" y="4214880"/>
            <a:ext cx="142920" cy="5000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5" name="Прямая со стрелкой 30"/>
          <p:cNvCxnSpPr/>
          <p:nvPr/>
        </p:nvCxnSpPr>
        <p:spPr>
          <a:xfrm flipH="1" flipV="1">
            <a:off x="642240" y="6214320"/>
            <a:ext cx="6715800" cy="1080"/>
          </a:xfrm>
          <a:prstGeom prst="straightConnector1">
            <a:avLst/>
          </a:prstGeom>
          <a:ln w="19080">
            <a:solidFill>
              <a:srgbClr val="000000"/>
            </a:solidFill>
            <a:miter/>
            <a:tailEnd len="med" type="arrow" w="med"/>
          </a:ln>
        </p:spPr>
      </p:cxnSp>
      <p:sp>
        <p:nvSpPr>
          <p:cNvPr id="716" name="TextBox 95"/>
          <p:cNvSpPr/>
          <p:nvPr/>
        </p:nvSpPr>
        <p:spPr>
          <a:xfrm>
            <a:off x="2149920" y="2571840"/>
            <a:ext cx="1997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образование ввод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ужный формат</a:t>
            </a:r>
            <a:endParaRPr b="0" lang="en-US" sz="1200" spc="-1" strike="noStrike">
              <a:solidFill>
                <a:srgbClr val="000000"/>
              </a:solidFill>
              <a:latin typeface="Arial"/>
            </a:endParaRPr>
          </a:p>
        </p:txBody>
      </p:sp>
      <p:sp>
        <p:nvSpPr>
          <p:cNvPr id="717" name="TextBox 96"/>
          <p:cNvSpPr/>
          <p:nvPr/>
        </p:nvSpPr>
        <p:spPr>
          <a:xfrm>
            <a:off x="2221200" y="35002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8" name="TextBox 97"/>
          <p:cNvSpPr/>
          <p:nvPr/>
        </p:nvSpPr>
        <p:spPr>
          <a:xfrm>
            <a:off x="4221360" y="32860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9" name="TextBox 98"/>
          <p:cNvSpPr/>
          <p:nvPr/>
        </p:nvSpPr>
        <p:spPr>
          <a:xfrm>
            <a:off x="6010920" y="3357720"/>
            <a:ext cx="161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он данны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ейронной сети</a:t>
            </a:r>
            <a:endParaRPr b="0" lang="en-US" sz="1200" spc="-1" strike="noStrike">
              <a:solidFill>
                <a:srgbClr val="000000"/>
              </a:solidFill>
              <a:latin typeface="Arial"/>
            </a:endParaRPr>
          </a:p>
        </p:txBody>
      </p:sp>
      <p:sp>
        <p:nvSpPr>
          <p:cNvPr id="720" name="TextBox 100"/>
          <p:cNvSpPr/>
          <p:nvPr/>
        </p:nvSpPr>
        <p:spPr>
          <a:xfrm>
            <a:off x="7429680" y="4857840"/>
            <a:ext cx="159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ятие реш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правомер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ьзователя</a:t>
            </a:r>
            <a:endParaRPr b="0" lang="en-US" sz="1200" spc="-1" strike="noStrike">
              <a:solidFill>
                <a:srgbClr val="000000"/>
              </a:solidFill>
              <a:latin typeface="Arial"/>
            </a:endParaRPr>
          </a:p>
        </p:txBody>
      </p:sp>
      <p:sp>
        <p:nvSpPr>
          <p:cNvPr id="721" name="TextBox 101"/>
          <p:cNvSpPr/>
          <p:nvPr/>
        </p:nvSpPr>
        <p:spPr>
          <a:xfrm>
            <a:off x="4138200" y="5929200"/>
            <a:ext cx="23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домление о результатах</a:t>
            </a:r>
            <a:endParaRPr b="0" lang="en-US" sz="1200" spc="-1" strike="noStrike">
              <a:solidFill>
                <a:srgbClr val="000000"/>
              </a:solidFill>
              <a:latin typeface="Arial"/>
            </a:endParaRPr>
          </a:p>
        </p:txBody>
      </p:sp>
      <p:sp>
        <p:nvSpPr>
          <p:cNvPr id="722" name="TextBox 102"/>
          <p:cNvSpPr/>
          <p:nvPr/>
        </p:nvSpPr>
        <p:spPr>
          <a:xfrm>
            <a:off x="4213440" y="4572000"/>
            <a:ext cx="1770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ализ результа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учётом точности</a:t>
            </a:r>
            <a:endParaRPr b="0" lang="en-US" sz="1200" spc="-1" strike="noStrike">
              <a:solidFill>
                <a:srgbClr val="000000"/>
              </a:solidFill>
              <a:latin typeface="Arial"/>
            </a:endParaRPr>
          </a:p>
        </p:txBody>
      </p:sp>
      <p:sp>
        <p:nvSpPr>
          <p:cNvPr id="723" name="TextBox 104"/>
          <p:cNvSpPr/>
          <p:nvPr/>
        </p:nvSpPr>
        <p:spPr>
          <a:xfrm>
            <a:off x="508680" y="2428920"/>
            <a:ext cx="165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 с клавиатур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Результаты работы</a:t>
            </a:r>
            <a:endParaRPr b="0" lang="en-US" sz="3300" spc="-1" strike="noStrike">
              <a:solidFill>
                <a:srgbClr val="7b9899"/>
              </a:solidFill>
              <a:latin typeface="Georgia"/>
            </a:endParaRPr>
          </a:p>
        </p:txBody>
      </p:sp>
      <p:sp>
        <p:nvSpPr>
          <p:cNvPr id="725" name=""/>
          <p:cNvSpPr txBox="1"/>
          <p:nvPr/>
        </p:nvSpPr>
        <p:spPr>
          <a:xfrm>
            <a:off x="285480" y="1785600"/>
            <a:ext cx="8504280" cy="3544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оведён анализ параметров, характеризующих клавиатурный почерк</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едложен механизм поиска нейронных сетей по входным данным и его реализация</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Разработан</a:t>
            </a:r>
            <a:r>
              <a:rPr b="0" lang="en-US" sz="2200" spc="-1" strike="noStrike">
                <a:solidFill>
                  <a:srgbClr val="000000"/>
                </a:solidFill>
                <a:latin typeface="Verdana"/>
              </a:rPr>
              <a:t> </a:t>
            </a:r>
            <a:r>
              <a:rPr b="0" lang="ru-RU" sz="2200" spc="-1" strike="noStrike">
                <a:solidFill>
                  <a:srgbClr val="000000"/>
                </a:solidFill>
                <a:latin typeface="Verdana"/>
              </a:rPr>
              <a:t>прототип биометрической системы аутентификации пользователя по клавиатурному почерку</a:t>
            </a:r>
            <a:endParaRPr b="0" lang="en-US" sz="2200" spc="-1" strike="noStrike">
              <a:solidFill>
                <a:srgbClr val="000000"/>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стоит только из программного обеспе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яет возможность обу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утентификация ведётся незаметным для пользователя способом</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4:03Z</dcterms:created>
  <dc:creator>toregozhin</dc:creator>
  <dc:description/>
  <dc:language>en-US</dc:language>
  <cp:lastModifiedBy>Торегожин Арстан</cp:lastModifiedBy>
  <dcterms:modified xsi:type="dcterms:W3CDTF">2009-05-30T10:23:16Z</dcterms:modified>
  <cp:revision>111</cp:revision>
  <dc:subject/>
  <dc:title>Узнавайка</dc:title>
</cp:coreProperties>
</file>